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279-7CA5-4B14-9F09-606C8678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DBD-E4C9-47CD-8CB7-523ED4C2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973-0340-4355-9B8A-5C69B69C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B17-9FBB-422A-82F5-60F9CD68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74E-A972-43FD-9B1A-F4E25AC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808-5110-4861-920A-0D99614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A501-2CBB-42AD-912C-6D59FCD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8E0-AB15-445B-AA3F-1B13165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A094-8F66-4CFF-AA59-DA2538C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32E-231A-4D76-A6D4-340AA78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127-F2BF-49D6-B4BD-2954977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289-5C83-406B-8A7D-18BA8D3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40D-1486-4F6D-AB09-BCA9A7BC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6BCE-ECC9-4EBE-8BB2-ED7BDA7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FC86-C6AE-40DF-8786-8C874FC2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A3C-9646-4E39-B46C-7666E370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029A-40F8-4B93-9773-7A739D5A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31C-E02A-431E-9A85-20259311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523-A875-43BC-9EE8-3BDE103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3CE-B90F-47D2-9A00-15D487F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38B-C43C-4A85-AD03-4A4F9F38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88A-486A-4F1F-9487-8740955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60A-7FA8-4424-8BBC-31F85EA2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AD9-0185-4B98-9CFD-A42D9AC4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FCCB-9029-43E0-9481-D4A8053D4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574-71F1-4E06-8A6B-0917882E3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863640"/>
            <a:ext cx="7772400" cy="22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s the Hardware Z-Buffer Doomed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cturer: Eric Haines, erich@acm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Transpa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basic algorithm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reen do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ck to front alpha compos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-Door Transpa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5200" y="1550520"/>
            <a:ext cx="778968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ly a checkerboard patter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er indepen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to one transparent surf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to alpha of 0.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ality is l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 Door Limi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1944720"/>
            <a:ext cx="1633680" cy="507960"/>
          </a:xfrm>
          <a:custGeom>
            <a:avLst/>
            <a:gdLst/>
            <a:ahLst/>
            <a:rect l="l" t="t" r="r" b="b"/>
            <a:pathLst>
              <a:path w="1029" h="320">
                <a:moveTo>
                  <a:pt x="0" y="0"/>
                </a:moveTo>
                <a:lnTo>
                  <a:pt x="811" y="0"/>
                </a:lnTo>
                <a:lnTo>
                  <a:pt x="1029" y="320"/>
                </a:lnTo>
                <a:lnTo>
                  <a:pt x="164" y="3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34960" y="3146400"/>
            <a:ext cx="1633680" cy="507960"/>
          </a:xfrm>
          <a:custGeom>
            <a:avLst/>
            <a:gdLst/>
            <a:ahLst/>
            <a:rect l="l" t="t" r="r" b="b"/>
            <a:pathLst>
              <a:path w="1029" h="320">
                <a:moveTo>
                  <a:pt x="0" y="0"/>
                </a:moveTo>
                <a:lnTo>
                  <a:pt x="811" y="0"/>
                </a:lnTo>
                <a:lnTo>
                  <a:pt x="1029" y="320"/>
                </a:lnTo>
                <a:lnTo>
                  <a:pt x="164" y="320"/>
                </a:lnTo>
                <a:lnTo>
                  <a:pt x="0" y="0"/>
                </a:lnTo>
                <a:close/>
              </a:path>
            </a:pathLst>
          </a:custGeom>
          <a:solidFill>
            <a:srgbClr val="993300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0920" y="4367160"/>
            <a:ext cx="1633320" cy="507960"/>
          </a:xfrm>
          <a:custGeom>
            <a:avLst/>
            <a:gdLst/>
            <a:ahLst/>
            <a:rect l="l" t="t" r="r" b="b"/>
            <a:pathLst>
              <a:path w="1029" h="320">
                <a:moveTo>
                  <a:pt x="0" y="0"/>
                </a:moveTo>
                <a:lnTo>
                  <a:pt x="811" y="0"/>
                </a:lnTo>
                <a:lnTo>
                  <a:pt x="1029" y="320"/>
                </a:lnTo>
                <a:lnTo>
                  <a:pt x="164" y="320"/>
                </a:lnTo>
                <a:lnTo>
                  <a:pt x="0" y="0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6520" y="167148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4200" y="16714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41880" y="167148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9560" y="16714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6520" y="19191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4200" y="19191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41880" y="19191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89560" y="19191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6520" y="21668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4200" y="216684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41880" y="21668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9560" y="216684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6520" y="24145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4200" y="24145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41880" y="24145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9560" y="24145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4652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420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4188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8956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652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420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4188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8956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52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9420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4188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956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652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9420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4188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8956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6520" y="54705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4200" y="5470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41880" y="54705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9560" y="5470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46520" y="5718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4200" y="57182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41880" y="5718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9560" y="57182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6520" y="59659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5965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1880" y="59659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89560" y="5965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46520" y="6213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4200" y="621360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41880" y="6213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89560" y="621360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46520" y="28717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4200" y="28717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1880" y="28717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9560" y="28717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311940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4200" y="31194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41880" y="311940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9560" y="31194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46520" y="336708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94200" y="33670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41880" y="336708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89560" y="33670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6147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94200" y="36147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1880" y="36147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9560" y="36147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89480" y="5259240"/>
            <a:ext cx="3884400" cy="74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60960" y="167148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8640" y="16714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167148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16714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960" y="19191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08640" y="19191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19191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04000" y="19191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60960" y="21668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08640" y="216684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6320" y="21668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216684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60960" y="24145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8640" y="24145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6320" y="24145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4145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096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0864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632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408456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6096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864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632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04000" y="433224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6096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864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632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04000" y="457992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6096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864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32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4827600"/>
            <a:ext cx="247680" cy="2476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60960" y="54705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8640" y="54705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6320" y="547056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4705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0960" y="571824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08640" y="57182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6320" y="571824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571824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0960" y="59659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08640" y="59659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6320" y="596592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59659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0960" y="62136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8640" y="621360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6320" y="62136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6213600"/>
            <a:ext cx="247680" cy="2476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0960" y="28717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08640" y="28717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6320" y="287172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04000" y="287172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60960" y="31194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08640" y="311940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6320" y="311940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311940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60960" y="33670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336708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6320" y="336708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336708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60960" y="36147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08640" y="36147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6320" y="3614760"/>
            <a:ext cx="247680" cy="247680"/>
          </a:xfrm>
          <a:prstGeom prst="rect">
            <a:avLst/>
          </a:prstGeom>
          <a:solidFill>
            <a:srgbClr val="99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3614760"/>
            <a:ext cx="247680" cy="247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Transpar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t be done in back to front or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mplies sorting. Eith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st must send data in proper or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or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nsparent surfaces must be stored and sorted on the accelerat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Antialia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739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 polygon edge antialiasing is costly. Approache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ersamp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umulation Buff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-B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ltisampling/A-B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samp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idea: render at a high resolution, filter d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mory intensive, and sampling is fixed to a gri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ists now, but is slow; still, a possible fu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umulation Buf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nder the scene a number of times and blend resul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des less memory for more time compared to supersampl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gher quality shading vs. A-Buffer, and fixed memo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th of field and motion bl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-Buf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sentially a parallel Accumulation Buffer (but parallel only for antialiasing), by 3dfx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eds no extra programm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ensive in memory and processo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-Buff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400040" y="1574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317840" y="2413080"/>
            <a:ext cx="901800" cy="723960"/>
          </a:xfrm>
          <a:custGeom>
            <a:avLst/>
            <a:gdLst/>
            <a:ahLst/>
            <a:rect l="l" t="t" r="r" b="b"/>
            <a:pathLst>
              <a:path w="568" h="456">
                <a:moveTo>
                  <a:pt x="568" y="0"/>
                </a:moveTo>
                <a:lnTo>
                  <a:pt x="568" y="456"/>
                </a:lnTo>
                <a:lnTo>
                  <a:pt x="0" y="456"/>
                </a:lnTo>
                <a:lnTo>
                  <a:pt x="0" y="304"/>
                </a:lnTo>
                <a:lnTo>
                  <a:pt x="568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7840" y="3517920"/>
            <a:ext cx="901800" cy="914400"/>
          </a:xfrm>
          <a:custGeom>
            <a:avLst/>
            <a:gdLst/>
            <a:ahLst/>
            <a:rect l="l" t="t" r="r" b="b"/>
            <a:pathLst>
              <a:path w="568" h="576">
                <a:moveTo>
                  <a:pt x="0" y="0"/>
                </a:moveTo>
                <a:lnTo>
                  <a:pt x="0" y="576"/>
                </a:lnTo>
                <a:lnTo>
                  <a:pt x="568" y="272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2349360"/>
            <a:ext cx="1727280" cy="2298960"/>
          </a:xfrm>
          <a:custGeom>
            <a:avLst/>
            <a:gdLst/>
            <a:ahLst/>
            <a:rect l="l" t="t" r="r" b="b"/>
            <a:pathLst>
              <a:path w="1088" h="1448">
                <a:moveTo>
                  <a:pt x="0" y="0"/>
                </a:moveTo>
                <a:lnTo>
                  <a:pt x="1072" y="168"/>
                </a:lnTo>
                <a:lnTo>
                  <a:pt x="1088" y="1448"/>
                </a:lnTo>
                <a:lnTo>
                  <a:pt x="40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sampling Frag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51240"/>
            <a:ext cx="1905120" cy="1168200"/>
          </a:xfrm>
          <a:custGeom>
            <a:avLst/>
            <a:gdLst/>
            <a:ahLst/>
            <a:rect l="l" t="t" r="r" b="b"/>
            <a:pathLst>
              <a:path w="1200" h="736">
                <a:moveTo>
                  <a:pt x="0" y="440"/>
                </a:moveTo>
                <a:lnTo>
                  <a:pt x="576" y="0"/>
                </a:lnTo>
                <a:lnTo>
                  <a:pt x="1200" y="360"/>
                </a:lnTo>
                <a:lnTo>
                  <a:pt x="600" y="736"/>
                </a:lnTo>
                <a:lnTo>
                  <a:pt x="0" y="44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3137040"/>
            <a:ext cx="952560" cy="1942920"/>
          </a:xfrm>
          <a:custGeom>
            <a:avLst/>
            <a:gdLst/>
            <a:ahLst/>
            <a:rect l="l" t="t" r="r" b="b"/>
            <a:pathLst>
              <a:path w="600" h="1224">
                <a:moveTo>
                  <a:pt x="0" y="0"/>
                </a:moveTo>
                <a:lnTo>
                  <a:pt x="8" y="952"/>
                </a:lnTo>
                <a:lnTo>
                  <a:pt x="600" y="1224"/>
                </a:lnTo>
                <a:lnTo>
                  <a:pt x="60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9240" y="3022560"/>
            <a:ext cx="965160" cy="2057400"/>
          </a:xfrm>
          <a:custGeom>
            <a:avLst/>
            <a:gdLst/>
            <a:ahLst/>
            <a:rect l="l" t="t" r="r" b="b"/>
            <a:pathLst>
              <a:path w="608" h="1296">
                <a:moveTo>
                  <a:pt x="600" y="0"/>
                </a:moveTo>
                <a:lnTo>
                  <a:pt x="608" y="1016"/>
                </a:lnTo>
                <a:lnTo>
                  <a:pt x="0" y="1296"/>
                </a:lnTo>
                <a:lnTo>
                  <a:pt x="0" y="360"/>
                </a:lnTo>
                <a:lnTo>
                  <a:pt x="600" y="0"/>
                </a:lnTo>
                <a:close/>
              </a:path>
            </a:pathLst>
          </a:custGeom>
          <a:solidFill>
            <a:srgbClr val="9933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41680" y="2768760"/>
            <a:ext cx="5713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17840" y="335268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73520" y="335268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35268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335268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17840" y="368316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73520" y="368316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368316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84880" y="368316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17840" y="401328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73520" y="401328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01328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84880" y="401328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17840" y="43434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3520" y="43434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43434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84880" y="43434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17840" y="18162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73520" y="18162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18162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84880" y="181620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17840" y="214632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73520" y="214632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214632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4880" y="214632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7840" y="247644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73520" y="247644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47644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2476440"/>
            <a:ext cx="355680" cy="33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17840" y="280656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73520" y="280656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280656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4880" y="2806560"/>
            <a:ext cx="355680" cy="330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17840" y="488952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73520" y="488952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488952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84880" y="488952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17840" y="52196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3520" y="52196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2196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4880" y="52196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17840" y="5549760"/>
            <a:ext cx="355680" cy="330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73520" y="5549760"/>
            <a:ext cx="355680" cy="330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5549760"/>
            <a:ext cx="355680" cy="330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84880" y="5549760"/>
            <a:ext cx="355680" cy="330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17840" y="58802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73520" y="58802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58802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84880" y="5880240"/>
            <a:ext cx="355680" cy="3301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32520" y="176544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32520" y="21081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2520" y="24256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0 1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32520" y="27558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32520" y="32511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32520" y="359424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32520" y="39117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32520" y="42418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0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2520" y="48387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32520" y="5181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32520" y="5499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32520" y="5829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Hardwar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dvantage of hardware rendering over software is limited to a single reason -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e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Steve Hollasch, Microsoft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Fahrenheit desig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sampling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fragments must be stored per pixel - more memo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so solves transparency probl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sely related to Z-Buff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d in flight simulator community, high-end machi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Samp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7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ular sampling gives alias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umulation buffer can help, but sampling is still regul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73360" y="4516560"/>
            <a:ext cx="73044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72000" y="45417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2840" y="47293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00360" y="482760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6800" y="504828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44880" y="51483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2560" y="50259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54400" y="4592520"/>
            <a:ext cx="7488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22640" y="489888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03800" y="4516560"/>
            <a:ext cx="73008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02080" y="45417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52920" y="47293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30800" y="48276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67240" y="504828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75320" y="51483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23000" y="50259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84840" y="45925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53080" y="489888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03800" y="5257800"/>
            <a:ext cx="730080" cy="74304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02080" y="52833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54705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30800" y="556884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67240" y="57895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75320" y="58896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23000" y="57675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84840" y="53341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53080" y="564048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73360" y="5257800"/>
            <a:ext cx="730440" cy="74304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72000" y="52833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2840" y="54705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00360" y="5568840"/>
            <a:ext cx="7488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6800" y="5789520"/>
            <a:ext cx="7488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44880" y="58896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2560" y="57675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54400" y="533412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22640" y="564048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73360" y="3780000"/>
            <a:ext cx="73044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72000" y="38052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22840" y="39924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00360" y="409104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6800" y="431172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44880" y="44118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2560" y="42894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54400" y="3855960"/>
            <a:ext cx="7488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22640" y="41623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03800" y="3780000"/>
            <a:ext cx="73008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02080" y="38052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52920" y="39924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30800" y="409104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7240" y="43117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75320" y="44118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3000" y="42894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84840" y="38559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53080" y="41623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27760" y="4516560"/>
            <a:ext cx="73008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26040" y="45417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76880" y="47293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54760" y="482760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91200" y="504828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98920" y="514836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46600" y="5025960"/>
            <a:ext cx="7488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08800" y="45925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77040" y="489888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27760" y="5257800"/>
            <a:ext cx="730080" cy="74304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26040" y="52833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76880" y="547056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54760" y="556884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91200" y="57895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98920" y="588960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46600" y="576756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08800" y="53341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77040" y="564048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7760" y="3780000"/>
            <a:ext cx="730080" cy="742680"/>
          </a:xfrm>
          <a:prstGeom prst="rect">
            <a:avLst/>
          </a:prstGeom>
          <a:solidFill>
            <a:srgbClr val="ff66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26040" y="38052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76880" y="399240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54760" y="409104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91200" y="4311720"/>
            <a:ext cx="7452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98920" y="441180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46600" y="4289400"/>
            <a:ext cx="7488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08800" y="385596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77040" y="4162320"/>
            <a:ext cx="74520" cy="9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Fil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65280" y="1676520"/>
            <a:ext cx="8097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pixel is not a little square” x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lvy Ray Sm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-buffer filtering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tent is always one pixel ce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ernel is almost always box fil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xture Fil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8800" y="1576080"/>
            <a:ext cx="800100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ongly supported by Z-Buffer hardware (e.g. anisotropic filtering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MIPPYR" descr=""/>
          <p:cNvPicPr/>
          <p:nvPr/>
        </p:nvPicPr>
        <p:blipFill>
          <a:blip r:embed="rId1"/>
          <a:stretch/>
        </p:blipFill>
        <p:spPr>
          <a:xfrm>
            <a:off x="501480" y="3371760"/>
            <a:ext cx="4114800" cy="3084480"/>
          </a:xfrm>
          <a:prstGeom prst="rect">
            <a:avLst/>
          </a:prstGeom>
          <a:ln w="0">
            <a:noFill/>
          </a:ln>
        </p:spPr>
      </p:pic>
      <p:pic>
        <p:nvPicPr>
          <p:cNvPr id="426" name="TXL_SAMP" descr=""/>
          <p:cNvPicPr/>
          <p:nvPr/>
        </p:nvPicPr>
        <p:blipFill>
          <a:blip r:embed="rId2"/>
          <a:stretch/>
        </p:blipFill>
        <p:spPr>
          <a:xfrm>
            <a:off x="4203720" y="3378240"/>
            <a:ext cx="4213080" cy="19605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flipH="1">
            <a:off x="7273440" y="3848040"/>
            <a:ext cx="482760" cy="816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07160" y="3919680"/>
            <a:ext cx="123840" cy="13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7440" y="4092480"/>
            <a:ext cx="123840" cy="136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96200" y="4278240"/>
            <a:ext cx="123840" cy="13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84960" y="4464000"/>
            <a:ext cx="123840" cy="13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Primi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s of using only triang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a explosion (in storage &amp; bus) for curved surfa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al solution is API support for Beziers &amp; subdivision surf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mitives (continue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-based, volumetric, hypertexture, non-photorealistic, and other schemes have to be converted to triang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al solution is using textures and variable alpha ble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Bandwid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2400" y="16257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st        Accelerator architecture; the bus between the two is a bottlene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imitives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ic compression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at point is it cheaper to send pixels instead of polyg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70320" y="1992240"/>
            <a:ext cx="676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ndwidth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ygonal mesh: each vertex shared by 6 triang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vertex has a position, normal, and one texture coordinate pair (at least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angle loop itself needs 3 bytes (for a mesh with &lt;= 256 vertic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32440" y="2251080"/>
            <a:ext cx="544320" cy="396720"/>
          </a:xfrm>
          <a:custGeom>
            <a:avLst/>
            <a:gdLst/>
            <a:ahLst/>
            <a:rect l="l" t="t" r="r" b="b"/>
            <a:pathLst>
              <a:path w="343" h="250">
                <a:moveTo>
                  <a:pt x="0" y="0"/>
                </a:moveTo>
                <a:lnTo>
                  <a:pt x="343" y="16"/>
                </a:lnTo>
                <a:lnTo>
                  <a:pt x="15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56200" y="2276640"/>
            <a:ext cx="520560" cy="384120"/>
          </a:xfrm>
          <a:custGeom>
            <a:avLst/>
            <a:gdLst/>
            <a:ahLst/>
            <a:rect l="l" t="t" r="r" b="b"/>
            <a:pathLst>
              <a:path w="328" h="242">
                <a:moveTo>
                  <a:pt x="273" y="234"/>
                </a:moveTo>
                <a:lnTo>
                  <a:pt x="328" y="0"/>
                </a:lnTo>
                <a:lnTo>
                  <a:pt x="0" y="242"/>
                </a:lnTo>
                <a:lnTo>
                  <a:pt x="273" y="234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6680" y="2251080"/>
            <a:ext cx="433440" cy="396720"/>
          </a:xfrm>
          <a:custGeom>
            <a:avLst/>
            <a:gdLst/>
            <a:ahLst/>
            <a:rect l="l" t="t" r="r" b="b"/>
            <a:pathLst>
              <a:path w="273" h="250">
                <a:moveTo>
                  <a:pt x="0" y="250"/>
                </a:moveTo>
                <a:lnTo>
                  <a:pt x="63" y="16"/>
                </a:lnTo>
                <a:lnTo>
                  <a:pt x="273" y="0"/>
                </a:lnTo>
                <a:lnTo>
                  <a:pt x="0" y="250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89640" y="2263680"/>
            <a:ext cx="469800" cy="408240"/>
          </a:xfrm>
          <a:custGeom>
            <a:avLst/>
            <a:gdLst/>
            <a:ahLst/>
            <a:rect l="l" t="t" r="r" b="b"/>
            <a:pathLst>
              <a:path w="296" h="257">
                <a:moveTo>
                  <a:pt x="0" y="242"/>
                </a:moveTo>
                <a:lnTo>
                  <a:pt x="265" y="0"/>
                </a:lnTo>
                <a:lnTo>
                  <a:pt x="296" y="257"/>
                </a:lnTo>
                <a:lnTo>
                  <a:pt x="0" y="242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64080" y="2647800"/>
            <a:ext cx="495360" cy="395280"/>
          </a:xfrm>
          <a:custGeom>
            <a:avLst/>
            <a:gdLst/>
            <a:ahLst/>
            <a:rect l="l" t="t" r="r" b="b"/>
            <a:pathLst>
              <a:path w="312" h="249">
                <a:moveTo>
                  <a:pt x="16" y="0"/>
                </a:moveTo>
                <a:lnTo>
                  <a:pt x="0" y="249"/>
                </a:lnTo>
                <a:lnTo>
                  <a:pt x="312" y="15"/>
                </a:lnTo>
                <a:lnTo>
                  <a:pt x="16" y="0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4080" y="2660760"/>
            <a:ext cx="495360" cy="395280"/>
          </a:xfrm>
          <a:custGeom>
            <a:avLst/>
            <a:gdLst/>
            <a:ahLst/>
            <a:rect l="l" t="t" r="r" b="b"/>
            <a:pathLst>
              <a:path w="312" h="249">
                <a:moveTo>
                  <a:pt x="0" y="249"/>
                </a:moveTo>
                <a:lnTo>
                  <a:pt x="265" y="233"/>
                </a:lnTo>
                <a:lnTo>
                  <a:pt x="312" y="0"/>
                </a:lnTo>
                <a:lnTo>
                  <a:pt x="0" y="249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06880" y="2647800"/>
            <a:ext cx="482760" cy="408240"/>
          </a:xfrm>
          <a:custGeom>
            <a:avLst/>
            <a:gdLst/>
            <a:ahLst/>
            <a:rect l="l" t="t" r="r" b="b"/>
            <a:pathLst>
              <a:path w="304" h="257">
                <a:moveTo>
                  <a:pt x="304" y="0"/>
                </a:moveTo>
                <a:lnTo>
                  <a:pt x="281" y="257"/>
                </a:lnTo>
                <a:lnTo>
                  <a:pt x="0" y="249"/>
                </a:lnTo>
                <a:lnTo>
                  <a:pt x="304" y="0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19480" y="2647800"/>
            <a:ext cx="457200" cy="395280"/>
          </a:xfrm>
          <a:custGeom>
            <a:avLst/>
            <a:gdLst/>
            <a:ahLst/>
            <a:rect l="l" t="t" r="r" b="b"/>
            <a:pathLst>
              <a:path w="288" h="249">
                <a:moveTo>
                  <a:pt x="288" y="0"/>
                </a:moveTo>
                <a:lnTo>
                  <a:pt x="0" y="249"/>
                </a:lnTo>
                <a:lnTo>
                  <a:pt x="23" y="8"/>
                </a:lnTo>
                <a:lnTo>
                  <a:pt x="288" y="0"/>
                </a:lnTo>
                <a:close/>
              </a:path>
            </a:pathLst>
          </a:cu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21240" y="2577960"/>
            <a:ext cx="138240" cy="15084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ndwidth Analysi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angle tak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*(3 XYZ floats + 3 normal floats + 2 UV floats) / 6 + 3 bytes for each loop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 bytes per tri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bytes per pixel (RG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 triangle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 visible 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9/3 ~= 6 pixels to cost less than sending the pix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idea by Steve Hollas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?: Linear Perform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wisd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y tracing O(log n) vs. Z-buffer’s O(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-buffer efficiency schemes i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ical frustum cu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&amp; por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lusion checking (HOM, HP Visual f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ical Z-Buff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Z-Buff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rute-force approach … is ridiculously expensiv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Sutherland, Sproull, and Schumacker,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 Characterization of Ten Hidden-Surface Algorithms,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97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?: Resha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5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on wisdom: Z-buffer reshades each pixel many times. Rising depth complexity and shading costs will slow the Z-buff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ixar spends 60+% time shading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5208480"/>
            <a:ext cx="1138320" cy="854280"/>
          </a:xfrm>
          <a:custGeom>
            <a:avLst/>
            <a:gdLst/>
            <a:ahLst/>
            <a:rect l="l" t="t" r="r" b="b"/>
            <a:pathLst>
              <a:path w="717" h="538">
                <a:moveTo>
                  <a:pt x="0" y="374"/>
                </a:moveTo>
                <a:lnTo>
                  <a:pt x="491" y="0"/>
                </a:lnTo>
                <a:lnTo>
                  <a:pt x="717" y="452"/>
                </a:lnTo>
                <a:lnTo>
                  <a:pt x="265" y="538"/>
                </a:lnTo>
                <a:lnTo>
                  <a:pt x="0" y="374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5221440"/>
            <a:ext cx="532080" cy="1050840"/>
          </a:xfrm>
          <a:custGeom>
            <a:avLst/>
            <a:gdLst/>
            <a:ahLst/>
            <a:rect l="l" t="t" r="r" b="b"/>
            <a:pathLst>
              <a:path w="335" h="662">
                <a:moveTo>
                  <a:pt x="23" y="0"/>
                </a:moveTo>
                <a:lnTo>
                  <a:pt x="319" y="156"/>
                </a:lnTo>
                <a:lnTo>
                  <a:pt x="335" y="662"/>
                </a:lnTo>
                <a:lnTo>
                  <a:pt x="0" y="483"/>
                </a:lnTo>
                <a:lnTo>
                  <a:pt x="23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64240" y="5245200"/>
            <a:ext cx="730080" cy="1150920"/>
          </a:xfrm>
          <a:custGeom>
            <a:avLst/>
            <a:gdLst/>
            <a:ahLst/>
            <a:rect l="l" t="t" r="r" b="b"/>
            <a:pathLst>
              <a:path w="460" h="725">
                <a:moveTo>
                  <a:pt x="0" y="187"/>
                </a:moveTo>
                <a:lnTo>
                  <a:pt x="172" y="0"/>
                </a:lnTo>
                <a:lnTo>
                  <a:pt x="328" y="195"/>
                </a:lnTo>
                <a:lnTo>
                  <a:pt x="460" y="156"/>
                </a:lnTo>
                <a:lnTo>
                  <a:pt x="421" y="553"/>
                </a:lnTo>
                <a:lnTo>
                  <a:pt x="39" y="725"/>
                </a:lnTo>
                <a:lnTo>
                  <a:pt x="109" y="429"/>
                </a:lnTo>
                <a:lnTo>
                  <a:pt x="0" y="187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85920" y="580248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6320" y="5802480"/>
            <a:ext cx="952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9160" y="5802480"/>
            <a:ext cx="1238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83160" y="5802480"/>
            <a:ext cx="1238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000" y="5518080"/>
            <a:ext cx="444600" cy="555840"/>
          </a:xfrm>
          <a:custGeom>
            <a:avLst/>
            <a:gdLst/>
            <a:ahLst/>
            <a:rect l="l" t="t" r="r" b="b"/>
            <a:pathLst>
              <a:path w="280" h="350">
                <a:moveTo>
                  <a:pt x="280" y="0"/>
                </a:moveTo>
                <a:lnTo>
                  <a:pt x="0" y="156"/>
                </a:lnTo>
                <a:lnTo>
                  <a:pt x="241" y="3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3800" y="5592600"/>
            <a:ext cx="133200" cy="382680"/>
          </a:xfrm>
          <a:custGeom>
            <a:avLst/>
            <a:gdLst/>
            <a:ahLst/>
            <a:rect l="l" t="t" r="r" b="b"/>
            <a:pathLst>
              <a:path w="84" h="241">
                <a:moveTo>
                  <a:pt x="39" y="0"/>
                </a:moveTo>
                <a:cubicBezTo>
                  <a:pt x="61" y="46"/>
                  <a:pt x="84" y="92"/>
                  <a:pt x="78" y="132"/>
                </a:cubicBezTo>
                <a:cubicBezTo>
                  <a:pt x="72" y="172"/>
                  <a:pt x="36" y="206"/>
                  <a:pt x="0" y="24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54080" y="5678640"/>
            <a:ext cx="120600" cy="222120"/>
          </a:xfrm>
          <a:custGeom>
            <a:avLst/>
            <a:gdLst/>
            <a:ahLst/>
            <a:rect l="l" t="t" r="r" b="b"/>
            <a:pathLst>
              <a:path w="76" h="140">
                <a:moveTo>
                  <a:pt x="76" y="0"/>
                </a:moveTo>
                <a:cubicBezTo>
                  <a:pt x="44" y="27"/>
                  <a:pt x="12" y="55"/>
                  <a:pt x="6" y="78"/>
                </a:cubicBezTo>
                <a:cubicBezTo>
                  <a:pt x="0" y="101"/>
                  <a:pt x="18" y="121"/>
                  <a:pt x="37" y="14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hading Mean Co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8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 is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x &amp; Hanrahan, 199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dings(n) = 1 + 1/2 + 1/3 + … + 1/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= log(n) + 0.5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9320" y="3598920"/>
            <a:ext cx="3835440" cy="606240"/>
          </a:xfrm>
          <a:prstGeom prst="rect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pth Complex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14760" y="3598920"/>
            <a:ext cx="3835440" cy="606240"/>
          </a:xfrm>
          <a:prstGeom prst="rect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ad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9320" y="4205160"/>
            <a:ext cx="3835440" cy="6066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14760" y="4205160"/>
            <a:ext cx="3835440" cy="6066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9320" y="4811760"/>
            <a:ext cx="3835440" cy="6062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14760" y="4811760"/>
            <a:ext cx="3835440" cy="6062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9320" y="5418000"/>
            <a:ext cx="3835440" cy="6066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14760" y="5418000"/>
            <a:ext cx="3835440" cy="6066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Paralle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790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emy of parallelism is coherence” - Jim Kajiy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rendering as a sorting problem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lnar/Cox/Ellsworth/Fuchs, 199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ternate Archit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85680" y="1676160"/>
            <a:ext cx="777744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VR (Dreamcast) tiling architec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xelFusion, based on PixelPla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light simula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akness: Global Eff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18640" y="1676520"/>
            <a:ext cx="794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mited to various hacks or preprocess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iosity rel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-Buffer Global Illu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3" name="MITCHELL" descr=""/>
          <p:cNvPicPr/>
          <p:nvPr/>
        </p:nvPicPr>
        <p:blipFill>
          <a:blip r:embed="rId1"/>
          <a:stretch/>
        </p:blipFill>
        <p:spPr>
          <a:xfrm>
            <a:off x="1479600" y="1636560"/>
            <a:ext cx="5951520" cy="4462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5727600" y="61372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ason L. Mitc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-Buffer Global Illum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6" name="newbut5" descr=""/>
          <p:cNvPicPr/>
          <p:nvPr/>
        </p:nvPicPr>
        <p:blipFill>
          <a:blip r:embed="rId1"/>
          <a:stretch/>
        </p:blipFill>
        <p:spPr>
          <a:xfrm>
            <a:off x="4417920" y="1768320"/>
            <a:ext cx="3583080" cy="3583080"/>
          </a:xfrm>
          <a:prstGeom prst="rect">
            <a:avLst/>
          </a:prstGeom>
          <a:ln w="0">
            <a:noFill/>
          </a:ln>
        </p:spPr>
      </p:pic>
      <p:pic>
        <p:nvPicPr>
          <p:cNvPr id="487" name="Figure8L" descr=""/>
          <p:cNvPicPr/>
          <p:nvPr/>
        </p:nvPicPr>
        <p:blipFill>
          <a:blip r:embed="rId2"/>
          <a:stretch/>
        </p:blipFill>
        <p:spPr>
          <a:xfrm>
            <a:off x="622440" y="1781280"/>
            <a:ext cx="3568680" cy="35686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252960" y="541800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im Ar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56520" y="54309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ul Diefenb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bvious 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y tracing: global, embarrassingly parall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needs shared memory or a copy of the database at each n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can be done, but for static scenes; efficiency scheme is a pre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ixar’s ray server a possible hybrid futu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gle Processor Spherefla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3" name="sballs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4254480" cy="31910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222640" y="491508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seconds a frame toda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frames/second by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akness?: Algorithm Shoehor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ecial-purpose processors always choke off real algorithmic creativity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Jim Blin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ngths of the Z-Buf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xed memory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ean mapping of data to screen (xform, cull, clip, interp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put data order is (usually) unimporta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el of Reincar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ined by Myer and Sutherland, 196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6120" y="535932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heel turns: GeForce256 GPU, ATI S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90840" y="2489040"/>
            <a:ext cx="2235240" cy="1155960"/>
          </a:xfrm>
          <a:prstGeom prst="roundRect">
            <a:avLst>
              <a:gd name="adj" fmla="val 16667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PU on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07040" y="4038480"/>
            <a:ext cx="2413080" cy="1155960"/>
          </a:xfrm>
          <a:prstGeom prst="roundRect">
            <a:avLst>
              <a:gd name="adj" fmla="val 16667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PU &amp; G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57480" y="4051440"/>
            <a:ext cx="2603160" cy="1155600"/>
          </a:xfrm>
          <a:prstGeom prst="roundRect">
            <a:avLst>
              <a:gd name="adj" fmla="val 16667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PU &amp; GP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0" idx="3"/>
            <a:endCxn id="501" idx="0"/>
          </p:cNvCxnSpPr>
          <p:nvPr/>
        </p:nvCxnSpPr>
        <p:spPr>
          <a:xfrm>
            <a:off x="5625720" y="3067200"/>
            <a:ext cx="788040" cy="97200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1"/>
            <a:endCxn id="502" idx="3"/>
          </p:cNvCxnSpPr>
          <p:nvPr/>
        </p:nvCxnSpPr>
        <p:spPr>
          <a:xfrm flipH="1">
            <a:off x="3860280" y="4616280"/>
            <a:ext cx="1347120" cy="13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2" idx="0"/>
            <a:endCxn id="500" idx="1"/>
          </p:cNvCxnSpPr>
          <p:nvPr/>
        </p:nvCxnSpPr>
        <p:spPr>
          <a:xfrm flipH="1" flipV="1" rot="5400000">
            <a:off x="2482200" y="3142800"/>
            <a:ext cx="984960" cy="83268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ff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364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-buffer - Carpenter, 19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-buffer - Saito &amp; Takahashi, 199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-buffer - Schneider &amp; Rossignac, 19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-buffer - Yuan &amp; Sun,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-buffer - Hsiung, Thibadeau &amp; Wu, 1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-buffer - 3dfx, 1996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Z-buffer - Catmull, 1973 (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ZZ-buffer - Salesin &amp; Stolfi, 198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cumulation Buffer - Haeberli &amp; Akeley, 1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ea Sampling Buffer - Sung, 19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ck Buffer - Baum, Cohen, Wallace &amp; Greenberg, 198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ose Objects Buffer - Telea &amp; van Overveld,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or Buff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ositing Buffer - Lau &amp; Wiseman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oss Scan Buffer - Tanaka &amp; Takahashi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lta Z Buffer - Yamamoto, 199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th Buffer - 19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th-Interval Buffer - Rossignac &amp; Wu, 198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uble Buffer - 199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26000" y="1657440"/>
            <a:ext cx="39718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ape Buffer - Hepting &amp; Hart, 19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ame Buffer - Kajiya, Sutherland &amp; Cheadle, 197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Z-Buffer - Greene, 199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em Buffer - Weghorst, Hooper &amp; Greenberg, 19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ght Buffer - Haines &amp; Greenberg, 198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sh Buffer - Deering, 19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rmal Buffer - Curington, 19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icture Buffer - Ollis &amp; Borgwardt, 19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ixel Buffer - Peachey, 19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y Distribution Buffer - Shinya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y-Z-Buffer - Lamparter, Muller &amp; Winckler, 1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freshing Buffer - Basil, 19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mple Buffer - Ke &amp; Change, 199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dow Buffer - GIMP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eet Buffer - Mueller &amp; Crawfis,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ncil Buffer - 1997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per Buffer - Gharachorloo &amp; Pottle, 19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per-Plane Buffer - Zhou &amp; Peng, 19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iple Buff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deo Buffer - Scherson &amp; Punte, 19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olume Buffer - Sramek &amp; Kaufman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realtimerendering.com/doome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-Buffer Hardware, Jan. 2000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VIDIA GeForce256 for the PC, 15 million polygons/sec, 480 megapixels/sec fill rate, hardware transform and ligh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ny Playstation2 game console, to be released 3/4/00, 20 million polygons/sec, 1.2+ gigapixels/se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ore’s Law:1.7x increase in CPU speed per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phics accelerators are 2x to 4x, (Poulton gives 2.4x since 1986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tes on a graphics accelerator &gt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tes on an Intel process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the year 2010 (no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21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ore’s Law gives 10x every 5 years, so CPUs are 100x faster in 20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7960" y="2984400"/>
            <a:ext cx="2214720" cy="608040"/>
          </a:xfrm>
          <a:prstGeom prst="rect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 speed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22680" y="2984400"/>
            <a:ext cx="1917720" cy="608040"/>
          </a:xfrm>
          <a:prstGeom prst="rect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0400" y="2984400"/>
            <a:ext cx="1917720" cy="608040"/>
          </a:xfrm>
          <a:prstGeom prst="rect">
            <a:avLst/>
          </a:prstGeom>
          <a:solidFill>
            <a:srgbClr val="ff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. C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7960" y="3591000"/>
            <a:ext cx="2214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22680" y="359100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40400" y="359100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7960" y="4197240"/>
            <a:ext cx="2214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4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22680" y="419724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,00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40400" y="419724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7960" y="4803840"/>
            <a:ext cx="2214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22680" y="480384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9,00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0400" y="480384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9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07960" y="5413320"/>
            <a:ext cx="2214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2680" y="541332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0400" y="5413320"/>
            <a:ext cx="1917720" cy="608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,000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-Buffer Sha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uraud interpo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ltip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ltitex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drich, SGI Clearcoat BRDF 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bitrarily complex local shading models will be poss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sible Z-Buffer Weakn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37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tialia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lte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miti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ndwid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11600" y="1676520"/>
            <a:ext cx="371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near Perform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h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allel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lobal Effec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eho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1:52:47Z</dcterms:created>
  <dc:creator>Eric Haines</dc:creator>
  <dc:description/>
  <dc:language>en-US</dc:language>
  <cp:lastModifiedBy>Eric Haines</cp:lastModifiedBy>
  <cp:lastPrinted>1999-11-08T19:05:54Z</cp:lastPrinted>
  <dcterms:modified xsi:type="dcterms:W3CDTF">2001-03-15T16:08:15Z</dcterms:modified>
  <cp:revision>75</cp:revision>
  <dc:subject>problems with Z-buffering, Jan. 2000</dc:subject>
  <dc:title>Is the Hardware Z-Buffer Doomed?</dc:title>
</cp:coreProperties>
</file>