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.jpeg" ContentType="image/jpeg"/>
  <Override PartName="/ppt/media/image3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F5F3D-826E-426C-96B7-E133A430E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1320" y="413064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2FEB2-01BC-43FD-8A90-79F0563C23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828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01B20-EDD8-40B1-9C61-40B4783D11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08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084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132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08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084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02085-ABBD-4343-89C6-ECCBDF4A5D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B6019-8723-4559-B498-5B26AD3EEB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E8C1F-01D9-4BC3-95DD-C4F6AF4222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A6B2B-F6A8-4FB7-B5C8-677C19396B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6DE58-CC35-4B88-B7BF-99FE83CEEB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9000" y="294840"/>
            <a:ext cx="743580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88A87-DF8A-4F88-8C52-E1B3F68A09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1C4E0-3CB4-40AC-A6DF-9BBB91B831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828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CC76F-2567-416D-86C7-A6B661BB2B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3938A-D846-4B7A-ACF5-EA92238CC5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9680" y="160200"/>
            <a:ext cx="888048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5520" y="1833480"/>
            <a:ext cx="885204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DA09-2E31-4537-B0C0-975BD74BEF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6359400" y="5908680"/>
            <a:ext cx="252252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7802640" y="403200"/>
            <a:ext cx="110628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39680" y="1824120"/>
            <a:ext cx="887724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topping Pipeline Starv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Eric Haines,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utodesk, Inc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erich@acm.or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ailboard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Nailboards are impostors with relative Z depth information stored. Allows overlap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nailimp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3152520" cy="2401920"/>
          </a:xfrm>
          <a:prstGeom prst="rect">
            <a:avLst/>
          </a:prstGeom>
          <a:ln w="0">
            <a:noFill/>
          </a:ln>
        </p:spPr>
      </p:pic>
      <p:pic>
        <p:nvPicPr>
          <p:cNvPr id="245" name="nail8bit" descr=""/>
          <p:cNvPicPr/>
          <p:nvPr/>
        </p:nvPicPr>
        <p:blipFill>
          <a:blip r:embed="rId2"/>
          <a:stretch/>
        </p:blipFill>
        <p:spPr>
          <a:xfrm>
            <a:off x="5029200" y="3048120"/>
            <a:ext cx="3124080" cy="23810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57200" y="6019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mages courtesy Gernot Schauf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00200" y="54100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ste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Nailbo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implified Models/LOD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Levels of Detail (LOD): when an object is far away, use a simpler version of it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ome types of LODs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iscrete LOD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lpha LOD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eomorph LOD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iscrete LOD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Multiple versions of same model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istance or screen size ranges are used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ey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R1                     R2                  R3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4572000"/>
            <a:ext cx="2819520" cy="0"/>
          </a:xfrm>
          <a:prstGeom prst="line">
            <a:avLst/>
          </a:prstGeom>
          <a:ln w="316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4572000"/>
            <a:ext cx="2590560" cy="0"/>
          </a:xfrm>
          <a:prstGeom prst="line">
            <a:avLst/>
          </a:prstGeom>
          <a:ln w="316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4572000"/>
            <a:ext cx="1752840" cy="0"/>
          </a:xfrm>
          <a:prstGeom prst="line">
            <a:avLst/>
          </a:prstGeom>
          <a:ln w="316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81080" y="4800600"/>
            <a:ext cx="609840" cy="609480"/>
          </a:xfrm>
          <a:prstGeom prst="ellipse">
            <a:avLst/>
          </a:prstGeom>
          <a:solidFill>
            <a:srgbClr val="9e47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24280" y="48006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9e47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38880" y="4800600"/>
            <a:ext cx="609840" cy="609480"/>
          </a:xfrm>
          <a:prstGeom prst="triangle">
            <a:avLst>
              <a:gd name="adj" fmla="val 50000"/>
            </a:avLst>
          </a:prstGeom>
          <a:solidFill>
            <a:srgbClr val="9e47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iscrete LOD Exampl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1320" y="1980720"/>
            <a:ext cx="8561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High-resolution to low-resolution models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LODSEATS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6400800" cy="29847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457200" y="60199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mages courtesy Nya Perspektiv Design 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rawbacks of Discrete LOD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Each LOD model must be modeled separately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opping often occurs when switching from one model to another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lending between models by having overlapping ranges may be possible, but then </a:t>
            </a: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both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models must be rendered.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lpha LOD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320" y="1980720"/>
            <a:ext cx="856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 simple idea: fade out the object as it gets beyond a certain range, until gone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ALPHALOD" descr=""/>
          <p:cNvPicPr/>
          <p:nvPr/>
        </p:nvPicPr>
        <p:blipFill>
          <a:blip r:embed="rId1"/>
          <a:stretch/>
        </p:blipFill>
        <p:spPr>
          <a:xfrm>
            <a:off x="1905120" y="3048120"/>
            <a:ext cx="4647960" cy="29178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934320" y="3809880"/>
            <a:ext cx="1752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cone fad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43600" y="3162240"/>
            <a:ext cx="1828800" cy="723960"/>
          </a:xfrm>
          <a:custGeom>
            <a:avLst/>
            <a:gdLst/>
            <a:ahLst/>
            <a:rect l="l" t="t" r="r" b="b"/>
            <a:pathLst>
              <a:path w="1152" h="456">
                <a:moveTo>
                  <a:pt x="1152" y="456"/>
                </a:moveTo>
                <a:cubicBezTo>
                  <a:pt x="1056" y="252"/>
                  <a:pt x="960" y="48"/>
                  <a:pt x="768" y="24"/>
                </a:cubicBezTo>
                <a:cubicBezTo>
                  <a:pt x="576" y="0"/>
                  <a:pt x="128" y="264"/>
                  <a:pt x="0" y="312"/>
                </a:cubicBezTo>
              </a:path>
            </a:pathLst>
          </a:custGeom>
          <a:noFill/>
          <a:ln w="255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eomorph LOD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e ideal is to smoothly transition between two different LOD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eomorph LODs do this by associating every vertex on the more complex model with some vertex on the simpler model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s the blend zone is traversed, one LOD model morphs into the other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eomorph LODs Exampl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5615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ey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16452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16452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R1                    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16452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16452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R2              R3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16452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16452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eomorph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16452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16452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2286000"/>
            <a:ext cx="3886200" cy="0"/>
          </a:xfrm>
          <a:prstGeom prst="line">
            <a:avLst/>
          </a:prstGeom>
          <a:ln w="316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86200" y="2743200"/>
            <a:ext cx="3124080" cy="0"/>
          </a:xfrm>
          <a:prstGeom prst="line">
            <a:avLst/>
          </a:prstGeom>
          <a:ln w="316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5880" y="3276720"/>
            <a:ext cx="2210040" cy="0"/>
          </a:xfrm>
          <a:prstGeom prst="line">
            <a:avLst/>
          </a:prstGeom>
          <a:ln w="316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57400" y="2514600"/>
            <a:ext cx="609480" cy="609480"/>
          </a:xfrm>
          <a:prstGeom prst="ellipse">
            <a:avLst/>
          </a:prstGeom>
          <a:solidFill>
            <a:srgbClr val="9e47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32767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9e47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35812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9e47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77120" y="1981080"/>
            <a:ext cx="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172200" y="4800600"/>
            <a:ext cx="685800" cy="609480"/>
          </a:xfrm>
          <a:custGeom>
            <a:avLst/>
            <a:gdLst/>
            <a:ahLst/>
            <a:rect l="l" t="t" r="r" b="b"/>
            <a:pathLst>
              <a:path w="432" h="384">
                <a:moveTo>
                  <a:pt x="144" y="0"/>
                </a:moveTo>
                <a:lnTo>
                  <a:pt x="240" y="0"/>
                </a:lnTo>
                <a:lnTo>
                  <a:pt x="432" y="288"/>
                </a:lnTo>
                <a:lnTo>
                  <a:pt x="384" y="384"/>
                </a:lnTo>
                <a:lnTo>
                  <a:pt x="48" y="384"/>
                </a:lnTo>
                <a:lnTo>
                  <a:pt x="0" y="288"/>
                </a:lnTo>
                <a:lnTo>
                  <a:pt x="144" y="0"/>
                </a:lnTo>
                <a:close/>
              </a:path>
            </a:pathLst>
          </a:custGeom>
          <a:solidFill>
            <a:srgbClr val="9e47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aking Geomorph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1320" y="1980720"/>
            <a:ext cx="8561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gressive Meshes, a.k.a. Simplification: starting with a complex model, simplify by removing an edge in the mesh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066680" y="3809880"/>
            <a:ext cx="2362320" cy="1676520"/>
          </a:xfrm>
          <a:custGeom>
            <a:avLst/>
            <a:gdLst/>
            <a:ahLst/>
            <a:rect l="l" t="t" r="r" b="b"/>
            <a:pathLst>
              <a:path w="1488" h="1056">
                <a:moveTo>
                  <a:pt x="0" y="192"/>
                </a:moveTo>
                <a:lnTo>
                  <a:pt x="624" y="0"/>
                </a:lnTo>
                <a:lnTo>
                  <a:pt x="1104" y="96"/>
                </a:lnTo>
                <a:lnTo>
                  <a:pt x="1488" y="528"/>
                </a:lnTo>
                <a:lnTo>
                  <a:pt x="1152" y="1056"/>
                </a:lnTo>
                <a:lnTo>
                  <a:pt x="624" y="1056"/>
                </a:lnTo>
                <a:lnTo>
                  <a:pt x="96" y="864"/>
                </a:lnTo>
                <a:lnTo>
                  <a:pt x="0" y="192"/>
                </a:lnTo>
                <a:close/>
              </a:path>
            </a:pathLst>
          </a:custGeom>
          <a:solidFill>
            <a:srgbClr val="9e4700"/>
          </a:solidFill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1219320" y="4647960"/>
            <a:ext cx="533160" cy="53316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1066320" y="4114800"/>
            <a:ext cx="685800" cy="5335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752480" y="3809520"/>
            <a:ext cx="304920" cy="83844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52480" y="4648320"/>
            <a:ext cx="914400" cy="15228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666880" y="3962520"/>
            <a:ext cx="152640" cy="83808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2057040" y="3809880"/>
            <a:ext cx="609480" cy="9907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647960"/>
            <a:ext cx="762120" cy="15228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666880" y="4800600"/>
            <a:ext cx="228600" cy="6858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057040" y="4800600"/>
            <a:ext cx="609480" cy="6858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52480" y="4648320"/>
            <a:ext cx="304920" cy="83808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23880" y="4191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66880" y="4343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5880" y="3733920"/>
            <a:ext cx="2362320" cy="1676160"/>
          </a:xfrm>
          <a:custGeom>
            <a:avLst/>
            <a:gdLst/>
            <a:ahLst/>
            <a:rect l="l" t="t" r="r" b="b"/>
            <a:pathLst>
              <a:path w="1488" h="1056">
                <a:moveTo>
                  <a:pt x="0" y="192"/>
                </a:moveTo>
                <a:lnTo>
                  <a:pt x="624" y="0"/>
                </a:lnTo>
                <a:lnTo>
                  <a:pt x="1104" y="96"/>
                </a:lnTo>
                <a:lnTo>
                  <a:pt x="1488" y="528"/>
                </a:lnTo>
                <a:lnTo>
                  <a:pt x="1152" y="1056"/>
                </a:lnTo>
                <a:lnTo>
                  <a:pt x="624" y="1056"/>
                </a:lnTo>
                <a:lnTo>
                  <a:pt x="96" y="864"/>
                </a:lnTo>
                <a:lnTo>
                  <a:pt x="0" y="192"/>
                </a:lnTo>
                <a:close/>
              </a:path>
            </a:pathLst>
          </a:custGeom>
          <a:solidFill>
            <a:srgbClr val="9e4700"/>
          </a:solidFill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248520" y="4572000"/>
            <a:ext cx="533160" cy="5335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 flipV="1">
            <a:off x="6095520" y="4038480"/>
            <a:ext cx="685800" cy="5335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781680" y="3733920"/>
            <a:ext cx="304920" cy="83808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781680" y="4572000"/>
            <a:ext cx="304920" cy="83808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553080" y="4114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6781320" y="4572000"/>
            <a:ext cx="1143000" cy="83808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6781320" y="4572000"/>
            <a:ext cx="167652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781680" y="3886200"/>
            <a:ext cx="1067040" cy="6858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4648320"/>
            <a:ext cx="16765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657600" y="4114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ge collap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477120" y="4724280"/>
            <a:ext cx="533160" cy="762120"/>
          </a:xfrm>
          <a:custGeom>
            <a:avLst/>
            <a:gdLst/>
            <a:ahLst/>
            <a:rect l="l" t="t" r="r" b="b"/>
            <a:pathLst>
              <a:path w="336" h="480">
                <a:moveTo>
                  <a:pt x="0" y="480"/>
                </a:moveTo>
                <a:lnTo>
                  <a:pt x="336" y="0"/>
                </a:lnTo>
                <a:lnTo>
                  <a:pt x="192" y="48"/>
                </a:lnTo>
                <a:lnTo>
                  <a:pt x="0" y="480"/>
                </a:lnTo>
                <a:close/>
              </a:path>
            </a:pathLst>
          </a:cu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ad Edge Collaps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1320" y="1980720"/>
            <a:ext cx="856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Not all edges can be collapsed during simplification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62120" y="3276720"/>
            <a:ext cx="2514600" cy="2209680"/>
          </a:xfrm>
          <a:custGeom>
            <a:avLst/>
            <a:gdLst/>
            <a:ahLst/>
            <a:rect l="l" t="t" r="r" b="b"/>
            <a:pathLst>
              <a:path w="1584" h="1392">
                <a:moveTo>
                  <a:pt x="96" y="0"/>
                </a:moveTo>
                <a:lnTo>
                  <a:pt x="912" y="96"/>
                </a:lnTo>
                <a:lnTo>
                  <a:pt x="1488" y="0"/>
                </a:lnTo>
                <a:lnTo>
                  <a:pt x="1584" y="768"/>
                </a:lnTo>
                <a:lnTo>
                  <a:pt x="816" y="960"/>
                </a:lnTo>
                <a:lnTo>
                  <a:pt x="624" y="1392"/>
                </a:lnTo>
                <a:lnTo>
                  <a:pt x="0" y="1008"/>
                </a:lnTo>
                <a:lnTo>
                  <a:pt x="96" y="0"/>
                </a:lnTo>
                <a:close/>
              </a:path>
            </a:pathLst>
          </a:custGeom>
          <a:solidFill>
            <a:srgbClr val="9e4700"/>
          </a:solidFill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14400" y="3276720"/>
            <a:ext cx="457200" cy="9144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1371600" y="3429000"/>
            <a:ext cx="838080" cy="7621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09680" y="3429000"/>
            <a:ext cx="533520" cy="6858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2743200" y="3276720"/>
            <a:ext cx="380880" cy="83808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2743200" y="4114800"/>
            <a:ext cx="533520" cy="38088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057040" y="4114800"/>
            <a:ext cx="685800" cy="6858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1371600" y="4114800"/>
            <a:ext cx="13716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371600" y="4191120"/>
            <a:ext cx="380880" cy="129528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761760" y="4191120"/>
            <a:ext cx="609480" cy="6858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371600" y="4191120"/>
            <a:ext cx="685800" cy="60948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86400" y="3276720"/>
            <a:ext cx="2514600" cy="2209680"/>
          </a:xfrm>
          <a:custGeom>
            <a:avLst/>
            <a:gdLst/>
            <a:ahLst/>
            <a:rect l="l" t="t" r="r" b="b"/>
            <a:pathLst>
              <a:path w="1584" h="1392">
                <a:moveTo>
                  <a:pt x="96" y="0"/>
                </a:moveTo>
                <a:lnTo>
                  <a:pt x="912" y="96"/>
                </a:lnTo>
                <a:lnTo>
                  <a:pt x="1488" y="0"/>
                </a:lnTo>
                <a:lnTo>
                  <a:pt x="1584" y="768"/>
                </a:lnTo>
                <a:lnTo>
                  <a:pt x="816" y="960"/>
                </a:lnTo>
                <a:lnTo>
                  <a:pt x="624" y="1392"/>
                </a:lnTo>
                <a:lnTo>
                  <a:pt x="0" y="1008"/>
                </a:lnTo>
                <a:lnTo>
                  <a:pt x="96" y="0"/>
                </a:lnTo>
                <a:close/>
              </a:path>
            </a:pathLst>
          </a:custGeom>
          <a:solidFill>
            <a:srgbClr val="9e4700"/>
          </a:solidFill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34320" y="3429000"/>
            <a:ext cx="533160" cy="6858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7467120" y="3276720"/>
            <a:ext cx="381240" cy="83808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7467480" y="4114800"/>
            <a:ext cx="533520" cy="38088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6781320" y="4114800"/>
            <a:ext cx="685800" cy="6858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90920" y="36576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19320" y="3733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6476760" y="4114800"/>
            <a:ext cx="990360" cy="13716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486400" y="4114440"/>
            <a:ext cx="1981080" cy="7621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38680" y="3276720"/>
            <a:ext cx="1828800" cy="83808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48769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ge cro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7086240" y="4800600"/>
            <a:ext cx="304920" cy="380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581280" y="4343400"/>
            <a:ext cx="16765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352680" y="3733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ge collap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Moore’s Law: 1.7x increase in CPU speed per year</a:t>
            </a:r>
            <a:br>
              <a:rPr sz="3100"/>
            </a:b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raphics accelerators are 2x to 4x (Poulton at UNC-CH gives 2.4x per year since 1986)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9360" y="29520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en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implification Method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980720"/>
            <a:ext cx="856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Each edge is ranked by its effect on the model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066680" y="3276720"/>
            <a:ext cx="1905120" cy="914400"/>
          </a:xfrm>
          <a:custGeom>
            <a:avLst/>
            <a:gdLst/>
            <a:ahLst/>
            <a:rect l="l" t="t" r="r" b="b"/>
            <a:pathLst>
              <a:path w="1200" h="576">
                <a:moveTo>
                  <a:pt x="0" y="336"/>
                </a:moveTo>
                <a:lnTo>
                  <a:pt x="432" y="0"/>
                </a:lnTo>
                <a:lnTo>
                  <a:pt x="1200" y="144"/>
                </a:lnTo>
                <a:lnTo>
                  <a:pt x="768" y="576"/>
                </a:lnTo>
                <a:lnTo>
                  <a:pt x="0" y="336"/>
                </a:lnTo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86000" y="3505320"/>
            <a:ext cx="685800" cy="190476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0" y="432"/>
                </a:lnTo>
                <a:lnTo>
                  <a:pt x="432" y="0"/>
                </a:lnTo>
                <a:lnTo>
                  <a:pt x="432" y="768"/>
                </a:lnTo>
                <a:lnTo>
                  <a:pt x="0" y="1200"/>
                </a:lnTo>
                <a:close/>
              </a:path>
            </a:pathLst>
          </a:custGeom>
          <a:solidFill>
            <a:srgbClr val="9e47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66680" y="3809880"/>
            <a:ext cx="1219320" cy="1600200"/>
          </a:xfrm>
          <a:custGeom>
            <a:avLst/>
            <a:gdLst/>
            <a:ahLst/>
            <a:rect l="l" t="t" r="r" b="b"/>
            <a:pathLst>
              <a:path w="768" h="1008">
                <a:moveTo>
                  <a:pt x="0" y="0"/>
                </a:moveTo>
                <a:lnTo>
                  <a:pt x="768" y="240"/>
                </a:lnTo>
                <a:lnTo>
                  <a:pt x="768" y="1008"/>
                </a:lnTo>
                <a:lnTo>
                  <a:pt x="0" y="720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752480" y="327672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752480" y="3504960"/>
            <a:ext cx="121932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1066680" y="4038480"/>
            <a:ext cx="68580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752480" y="4038480"/>
            <a:ext cx="53352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7652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33720" y="3809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81280" y="3276720"/>
            <a:ext cx="1905120" cy="914400"/>
          </a:xfrm>
          <a:custGeom>
            <a:avLst/>
            <a:gdLst/>
            <a:ahLst/>
            <a:rect l="l" t="t" r="r" b="b"/>
            <a:pathLst>
              <a:path w="1200" h="576">
                <a:moveTo>
                  <a:pt x="0" y="336"/>
                </a:moveTo>
                <a:lnTo>
                  <a:pt x="432" y="0"/>
                </a:lnTo>
                <a:lnTo>
                  <a:pt x="1200" y="144"/>
                </a:lnTo>
                <a:lnTo>
                  <a:pt x="768" y="576"/>
                </a:lnTo>
                <a:lnTo>
                  <a:pt x="0" y="336"/>
                </a:lnTo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00600" y="3505320"/>
            <a:ext cx="685800" cy="190476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0" y="432"/>
                </a:lnTo>
                <a:lnTo>
                  <a:pt x="432" y="0"/>
                </a:lnTo>
                <a:lnTo>
                  <a:pt x="432" y="768"/>
                </a:lnTo>
                <a:lnTo>
                  <a:pt x="0" y="1200"/>
                </a:lnTo>
                <a:close/>
              </a:path>
            </a:pathLst>
          </a:custGeom>
          <a:solidFill>
            <a:srgbClr val="9e47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581280" y="3809880"/>
            <a:ext cx="1219320" cy="1600200"/>
          </a:xfrm>
          <a:custGeom>
            <a:avLst/>
            <a:gdLst/>
            <a:ahLst/>
            <a:rect l="l" t="t" r="r" b="b"/>
            <a:pathLst>
              <a:path w="768" h="1008">
                <a:moveTo>
                  <a:pt x="0" y="0"/>
                </a:moveTo>
                <a:lnTo>
                  <a:pt x="768" y="240"/>
                </a:lnTo>
                <a:lnTo>
                  <a:pt x="768" y="1008"/>
                </a:lnTo>
                <a:lnTo>
                  <a:pt x="0" y="720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483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172200" y="3276720"/>
            <a:ext cx="1905120" cy="914400"/>
          </a:xfrm>
          <a:custGeom>
            <a:avLst/>
            <a:gdLst/>
            <a:ahLst/>
            <a:rect l="l" t="t" r="r" b="b"/>
            <a:pathLst>
              <a:path w="1200" h="576">
                <a:moveTo>
                  <a:pt x="0" y="336"/>
                </a:moveTo>
                <a:lnTo>
                  <a:pt x="432" y="0"/>
                </a:lnTo>
                <a:lnTo>
                  <a:pt x="1200" y="144"/>
                </a:lnTo>
                <a:lnTo>
                  <a:pt x="768" y="576"/>
                </a:lnTo>
                <a:lnTo>
                  <a:pt x="0" y="336"/>
                </a:lnTo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391520" y="3505320"/>
            <a:ext cx="685800" cy="190476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0" y="432"/>
                </a:lnTo>
                <a:lnTo>
                  <a:pt x="432" y="0"/>
                </a:lnTo>
                <a:lnTo>
                  <a:pt x="432" y="768"/>
                </a:lnTo>
                <a:lnTo>
                  <a:pt x="0" y="1200"/>
                </a:lnTo>
                <a:close/>
              </a:path>
            </a:pathLst>
          </a:custGeom>
          <a:solidFill>
            <a:srgbClr val="9e47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172200" y="3809880"/>
            <a:ext cx="1219320" cy="1600200"/>
          </a:xfrm>
          <a:custGeom>
            <a:avLst/>
            <a:gdLst/>
            <a:ahLst/>
            <a:rect l="l" t="t" r="r" b="b"/>
            <a:pathLst>
              <a:path w="768" h="1008">
                <a:moveTo>
                  <a:pt x="0" y="0"/>
                </a:moveTo>
                <a:lnTo>
                  <a:pt x="768" y="240"/>
                </a:lnTo>
                <a:lnTo>
                  <a:pt x="768" y="1008"/>
                </a:lnTo>
                <a:lnTo>
                  <a:pt x="0" y="720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0" y="327672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6858000" y="3504960"/>
            <a:ext cx="121932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6172200" y="4038480"/>
            <a:ext cx="68580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0" y="4038480"/>
            <a:ext cx="53352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7816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267080" y="3276720"/>
            <a:ext cx="53352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3581280" y="4191120"/>
            <a:ext cx="121932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3505320"/>
            <a:ext cx="1219320" cy="1904760"/>
          </a:xfrm>
          <a:custGeom>
            <a:avLst/>
            <a:gdLst/>
            <a:ahLst/>
            <a:rect l="l" t="t" r="r" b="b"/>
            <a:pathLst>
              <a:path w="768" h="1200">
                <a:moveTo>
                  <a:pt x="336" y="1200"/>
                </a:moveTo>
                <a:lnTo>
                  <a:pt x="0" y="336"/>
                </a:lnTo>
                <a:lnTo>
                  <a:pt x="768" y="0"/>
                </a:lnTo>
                <a:lnTo>
                  <a:pt x="336" y="1200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dge Func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320" y="1980720"/>
            <a:ext cx="85611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ich edge is least important is a non-trivial function, and is perception based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ample: eyes and mouth more importa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CESSNAS2" descr=""/>
          <p:cNvPicPr/>
          <p:nvPr/>
        </p:nvPicPr>
        <p:blipFill>
          <a:blip r:embed="rId1"/>
          <a:stretch/>
        </p:blipFill>
        <p:spPr>
          <a:xfrm>
            <a:off x="4572000" y="3809880"/>
            <a:ext cx="3728880" cy="1592280"/>
          </a:xfrm>
          <a:prstGeom prst="rect">
            <a:avLst/>
          </a:prstGeom>
          <a:ln w="0">
            <a:noFill/>
          </a:ln>
        </p:spPr>
      </p:pic>
      <p:pic>
        <p:nvPicPr>
          <p:cNvPr id="364" name="CESSNAS1" descr=""/>
          <p:cNvPicPr/>
          <p:nvPr/>
        </p:nvPicPr>
        <p:blipFill>
          <a:blip r:embed="rId2"/>
          <a:stretch/>
        </p:blipFill>
        <p:spPr>
          <a:xfrm>
            <a:off x="563400" y="3809880"/>
            <a:ext cx="4030920" cy="15955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457200" y="5638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mages courtesy Hugues Hop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lax Demonstr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800600" y="22096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pace-bar to go to next model, “Enter” to selec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396216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errain Simplific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320" y="1980720"/>
            <a:ext cx="8561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One idea is to simplify the model once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crater-200000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372" name="crater-1000" descr=""/>
          <p:cNvPicPr/>
          <p:nvPr/>
        </p:nvPicPr>
        <p:blipFill>
          <a:blip r:embed="rId2"/>
          <a:stretch/>
        </p:blipFill>
        <p:spPr>
          <a:xfrm>
            <a:off x="3276720" y="274320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373" name="crater-mesh-1000" descr=""/>
          <p:cNvPicPr/>
          <p:nvPr/>
        </p:nvPicPr>
        <p:blipFill>
          <a:blip r:embed="rId3"/>
          <a:stretch/>
        </p:blipFill>
        <p:spPr>
          <a:xfrm>
            <a:off x="6095880" y="2743200"/>
            <a:ext cx="2668680" cy="200196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457200" y="6019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mages courtesy Michael Gar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1680" y="4952880"/>
            <a:ext cx="8561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en turn the reduced detail into texture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lich Demonstr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5029200" cy="367344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5791320" y="1981080"/>
            <a:ext cx="2895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ft mouse - rot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ht mouse - mo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 - wireframe togg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- texture togg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 - follow terr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/= - change det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 - animated mo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creen Size Determin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ich LOD to use is related to the number of pixels it covers. Methods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raw the object, count the pixels (dumb)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Use a box around the object, transform to screen, use area of rectangle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nd area of box itself on screen (Schamlstieg and Tobler, jgt 1999)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304560" y="190512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deal: get area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overed by object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ypical: get 2D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creen rectangle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ompromise: get bounding box’s area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9480" y="2057400"/>
            <a:ext cx="2971800" cy="2209680"/>
          </a:xfrm>
          <a:prstGeom prst="rect">
            <a:avLst/>
          </a:prstGeom>
          <a:noFill/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480" y="2057400"/>
            <a:ext cx="2971800" cy="2209680"/>
          </a:xfrm>
          <a:custGeom>
            <a:avLst/>
            <a:gdLst/>
            <a:ahLst/>
            <a:rect l="l" t="t" r="r" b="b"/>
            <a:pathLst>
              <a:path w="1872" h="1392">
                <a:moveTo>
                  <a:pt x="0" y="432"/>
                </a:moveTo>
                <a:lnTo>
                  <a:pt x="432" y="0"/>
                </a:lnTo>
                <a:lnTo>
                  <a:pt x="1872" y="1008"/>
                </a:lnTo>
                <a:lnTo>
                  <a:pt x="1440" y="1392"/>
                </a:lnTo>
                <a:lnTo>
                  <a:pt x="0" y="432"/>
                </a:lnTo>
                <a:close/>
              </a:path>
            </a:pathLst>
          </a:custGeom>
          <a:solidFill>
            <a:srgbClr val="863d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ize Determination Illustrated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62120" y="2590920"/>
            <a:ext cx="2743200" cy="1066680"/>
          </a:xfrm>
          <a:prstGeom prst="lightningBolt">
            <a:avLst/>
          </a:prstGeom>
          <a:solidFill>
            <a:srgbClr val="ff66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95280" y="2247840"/>
            <a:ext cx="3505320" cy="419040"/>
          </a:xfrm>
          <a:custGeom>
            <a:avLst/>
            <a:gdLst/>
            <a:ahLst/>
            <a:rect l="l" t="t" r="r" b="b"/>
            <a:pathLst>
              <a:path w="2208" h="264">
                <a:moveTo>
                  <a:pt x="2208" y="120"/>
                </a:moveTo>
                <a:cubicBezTo>
                  <a:pt x="1528" y="60"/>
                  <a:pt x="848" y="0"/>
                  <a:pt x="480" y="24"/>
                </a:cubicBezTo>
                <a:cubicBezTo>
                  <a:pt x="112" y="48"/>
                  <a:pt x="48" y="216"/>
                  <a:pt x="0" y="264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3580920" y="3124080"/>
            <a:ext cx="1295640" cy="990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1600200" y="3657240"/>
            <a:ext cx="304920" cy="1600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lgorithm Over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chmalsteig and Tobler (journal of graphics tools, 1999)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etermine how many (1, 2, or 3) and which faces of the box are visible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ject the vertices of the silhouette edge to the screen (4 or 6 vertices)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ompute the area from these point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xample Box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90720" y="2046240"/>
            <a:ext cx="1734840" cy="1617840"/>
          </a:xfrm>
          <a:custGeom>
            <a:avLst/>
            <a:gdLst/>
            <a:ahLst/>
            <a:rect l="l" t="t" r="r" b="b"/>
            <a:pathLst>
              <a:path w="1152" h="1104">
                <a:moveTo>
                  <a:pt x="0" y="48"/>
                </a:moveTo>
                <a:lnTo>
                  <a:pt x="1056" y="0"/>
                </a:lnTo>
                <a:lnTo>
                  <a:pt x="1152" y="1056"/>
                </a:lnTo>
                <a:lnTo>
                  <a:pt x="48" y="1104"/>
                </a:lnTo>
                <a:lnTo>
                  <a:pt x="0" y="48"/>
                </a:lnTo>
                <a:close/>
              </a:path>
            </a:pathLst>
          </a:custGeom>
          <a:solidFill>
            <a:srgbClr val="ff66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990720" y="2116080"/>
            <a:ext cx="361800" cy="35100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2290680" y="2045880"/>
            <a:ext cx="290520" cy="35100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1352520" y="2397240"/>
            <a:ext cx="938160" cy="6984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90680" y="2397240"/>
            <a:ext cx="73080" cy="91440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63760" y="3311640"/>
            <a:ext cx="361800" cy="28080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52520" y="2467080"/>
            <a:ext cx="71640" cy="91440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1063440" y="3381480"/>
            <a:ext cx="360360" cy="28260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1424160" y="3311640"/>
            <a:ext cx="939600" cy="6984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19360" y="1974960"/>
            <a:ext cx="1808280" cy="633240"/>
          </a:xfrm>
          <a:custGeom>
            <a:avLst/>
            <a:gdLst/>
            <a:ahLst/>
            <a:rect l="l" t="t" r="r" b="b"/>
            <a:pathLst>
              <a:path w="1200" h="432">
                <a:moveTo>
                  <a:pt x="0" y="432"/>
                </a:moveTo>
                <a:lnTo>
                  <a:pt x="192" y="0"/>
                </a:lnTo>
                <a:lnTo>
                  <a:pt x="960" y="0"/>
                </a:lnTo>
                <a:lnTo>
                  <a:pt x="1200" y="432"/>
                </a:lnTo>
                <a:lnTo>
                  <a:pt x="0" y="432"/>
                </a:lnTo>
                <a:close/>
              </a:path>
            </a:pathLst>
          </a:custGeom>
          <a:solidFill>
            <a:srgbClr val="ff66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19360" y="2608200"/>
            <a:ext cx="1808280" cy="1055880"/>
          </a:xfrm>
          <a:custGeom>
            <a:avLst/>
            <a:gdLst/>
            <a:ahLst/>
            <a:rect l="l" t="t" r="r" b="b"/>
            <a:pathLst>
              <a:path w="1200" h="720">
                <a:moveTo>
                  <a:pt x="0" y="0"/>
                </a:moveTo>
                <a:lnTo>
                  <a:pt x="1200" y="0"/>
                </a:lnTo>
                <a:lnTo>
                  <a:pt x="1008" y="720"/>
                </a:lnTo>
                <a:lnTo>
                  <a:pt x="144" y="720"/>
                </a:lnTo>
                <a:lnTo>
                  <a:pt x="0" y="0"/>
                </a:lnTo>
                <a:close/>
              </a:path>
            </a:pathLst>
          </a:custGeom>
          <a:solidFill>
            <a:srgbClr val="9933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09880" y="1974960"/>
            <a:ext cx="71640" cy="91440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4821120" y="1974960"/>
            <a:ext cx="144720" cy="91440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81520" y="2889360"/>
            <a:ext cx="93960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21120" y="2889360"/>
            <a:ext cx="216000" cy="77472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3736800" y="2889360"/>
            <a:ext cx="144720" cy="77472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11960" y="1905120"/>
            <a:ext cx="1589040" cy="1195200"/>
          </a:xfrm>
          <a:custGeom>
            <a:avLst/>
            <a:gdLst/>
            <a:ahLst/>
            <a:rect l="l" t="t" r="r" b="b"/>
            <a:pathLst>
              <a:path w="1056" h="816">
                <a:moveTo>
                  <a:pt x="0" y="0"/>
                </a:moveTo>
                <a:lnTo>
                  <a:pt x="720" y="192"/>
                </a:lnTo>
                <a:lnTo>
                  <a:pt x="1056" y="816"/>
                </a:lnTo>
                <a:lnTo>
                  <a:pt x="240" y="816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49800" y="1905120"/>
            <a:ext cx="722520" cy="1828800"/>
          </a:xfrm>
          <a:custGeom>
            <a:avLst/>
            <a:gdLst/>
            <a:ahLst/>
            <a:rect l="l" t="t" r="r" b="b"/>
            <a:pathLst>
              <a:path w="480" h="1248">
                <a:moveTo>
                  <a:pt x="240" y="0"/>
                </a:moveTo>
                <a:lnTo>
                  <a:pt x="480" y="816"/>
                </a:lnTo>
                <a:lnTo>
                  <a:pt x="96" y="1248"/>
                </a:lnTo>
                <a:lnTo>
                  <a:pt x="0" y="528"/>
                </a:lnTo>
                <a:lnTo>
                  <a:pt x="240" y="0"/>
                </a:lnTo>
                <a:close/>
              </a:path>
            </a:pathLst>
          </a:custGeom>
          <a:solidFill>
            <a:srgbClr val="ff66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194520" y="3100320"/>
            <a:ext cx="1806480" cy="633600"/>
          </a:xfrm>
          <a:custGeom>
            <a:avLst/>
            <a:gdLst/>
            <a:ahLst/>
            <a:rect l="l" t="t" r="r" b="b"/>
            <a:pathLst>
              <a:path w="1200" h="432">
                <a:moveTo>
                  <a:pt x="384" y="0"/>
                </a:moveTo>
                <a:lnTo>
                  <a:pt x="1200" y="0"/>
                </a:lnTo>
                <a:lnTo>
                  <a:pt x="624" y="384"/>
                </a:lnTo>
                <a:lnTo>
                  <a:pt x="0" y="432"/>
                </a:lnTo>
                <a:lnTo>
                  <a:pt x="384" y="0"/>
                </a:lnTo>
                <a:close/>
              </a:path>
            </a:pathLst>
          </a:custGeom>
          <a:solidFill>
            <a:srgbClr val="9933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6916680" y="2185920"/>
            <a:ext cx="577800" cy="63360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916680" y="2819520"/>
            <a:ext cx="217440" cy="84456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 flipV="1">
            <a:off x="6049800" y="2677680"/>
            <a:ext cx="866880" cy="14148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6019920" y="3886200"/>
            <a:ext cx="2057400" cy="1828800"/>
          </a:xfrm>
          <a:custGeom>
            <a:avLst/>
            <a:gdLst/>
            <a:ahLst/>
            <a:rect l="l" t="t" r="r" b="b"/>
            <a:pathLst>
              <a:path w="1296" h="1152">
                <a:moveTo>
                  <a:pt x="240" y="0"/>
                </a:moveTo>
                <a:lnTo>
                  <a:pt x="960" y="192"/>
                </a:lnTo>
                <a:lnTo>
                  <a:pt x="1296" y="768"/>
                </a:lnTo>
                <a:lnTo>
                  <a:pt x="720" y="1152"/>
                </a:lnTo>
                <a:lnTo>
                  <a:pt x="96" y="1152"/>
                </a:lnTo>
                <a:lnTo>
                  <a:pt x="0" y="528"/>
                </a:lnTo>
                <a:lnTo>
                  <a:pt x="240" y="0"/>
                </a:lnTo>
                <a:close/>
              </a:path>
            </a:pathLst>
          </a:custGeom>
          <a:solidFill>
            <a:srgbClr val="9e47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505320" y="3962520"/>
            <a:ext cx="1828800" cy="167616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192" y="0"/>
                </a:moveTo>
                <a:lnTo>
                  <a:pt x="912" y="0"/>
                </a:lnTo>
                <a:lnTo>
                  <a:pt x="1152" y="384"/>
                </a:lnTo>
                <a:lnTo>
                  <a:pt x="960" y="1056"/>
                </a:lnTo>
                <a:lnTo>
                  <a:pt x="144" y="1056"/>
                </a:lnTo>
                <a:lnTo>
                  <a:pt x="0" y="384"/>
                </a:lnTo>
                <a:lnTo>
                  <a:pt x="192" y="0"/>
                </a:lnTo>
                <a:close/>
              </a:path>
            </a:pathLst>
          </a:custGeom>
          <a:solidFill>
            <a:srgbClr val="9e47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xample Box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90720" y="2046240"/>
            <a:ext cx="1734840" cy="1617840"/>
          </a:xfrm>
          <a:custGeom>
            <a:avLst/>
            <a:gdLst/>
            <a:ahLst/>
            <a:rect l="l" t="t" r="r" b="b"/>
            <a:pathLst>
              <a:path w="1152" h="1104">
                <a:moveTo>
                  <a:pt x="0" y="48"/>
                </a:moveTo>
                <a:lnTo>
                  <a:pt x="1056" y="0"/>
                </a:lnTo>
                <a:lnTo>
                  <a:pt x="1152" y="1056"/>
                </a:lnTo>
                <a:lnTo>
                  <a:pt x="48" y="1104"/>
                </a:lnTo>
                <a:lnTo>
                  <a:pt x="0" y="48"/>
                </a:lnTo>
                <a:close/>
              </a:path>
            </a:pathLst>
          </a:custGeom>
          <a:solidFill>
            <a:srgbClr val="ff66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990720" y="2116080"/>
            <a:ext cx="361800" cy="35100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2290680" y="2045880"/>
            <a:ext cx="290520" cy="35100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1352520" y="2397240"/>
            <a:ext cx="938160" cy="6984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290680" y="2397240"/>
            <a:ext cx="73080" cy="91440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363760" y="3311640"/>
            <a:ext cx="361800" cy="28080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52520" y="2467080"/>
            <a:ext cx="71640" cy="91440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1063440" y="3381480"/>
            <a:ext cx="360360" cy="28260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1424160" y="3311640"/>
            <a:ext cx="939600" cy="6984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19360" y="1974960"/>
            <a:ext cx="1808280" cy="633240"/>
          </a:xfrm>
          <a:custGeom>
            <a:avLst/>
            <a:gdLst/>
            <a:ahLst/>
            <a:rect l="l" t="t" r="r" b="b"/>
            <a:pathLst>
              <a:path w="1200" h="432">
                <a:moveTo>
                  <a:pt x="0" y="432"/>
                </a:moveTo>
                <a:lnTo>
                  <a:pt x="192" y="0"/>
                </a:lnTo>
                <a:lnTo>
                  <a:pt x="960" y="0"/>
                </a:lnTo>
                <a:lnTo>
                  <a:pt x="1200" y="432"/>
                </a:lnTo>
                <a:lnTo>
                  <a:pt x="0" y="432"/>
                </a:lnTo>
                <a:close/>
              </a:path>
            </a:pathLst>
          </a:custGeom>
          <a:solidFill>
            <a:srgbClr val="ff66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19360" y="2608200"/>
            <a:ext cx="1808280" cy="1055880"/>
          </a:xfrm>
          <a:custGeom>
            <a:avLst/>
            <a:gdLst/>
            <a:ahLst/>
            <a:rect l="l" t="t" r="r" b="b"/>
            <a:pathLst>
              <a:path w="1200" h="720">
                <a:moveTo>
                  <a:pt x="0" y="0"/>
                </a:moveTo>
                <a:lnTo>
                  <a:pt x="1200" y="0"/>
                </a:lnTo>
                <a:lnTo>
                  <a:pt x="1008" y="720"/>
                </a:lnTo>
                <a:lnTo>
                  <a:pt x="144" y="720"/>
                </a:lnTo>
                <a:lnTo>
                  <a:pt x="0" y="0"/>
                </a:lnTo>
                <a:close/>
              </a:path>
            </a:pathLst>
          </a:custGeom>
          <a:solidFill>
            <a:srgbClr val="9933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09880" y="1974960"/>
            <a:ext cx="71640" cy="91440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4821120" y="1974960"/>
            <a:ext cx="144720" cy="91440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81520" y="2889360"/>
            <a:ext cx="93960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821120" y="2889360"/>
            <a:ext cx="216000" cy="77472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3736800" y="2889360"/>
            <a:ext cx="144720" cy="77472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411960" y="1905120"/>
            <a:ext cx="1589040" cy="1195200"/>
          </a:xfrm>
          <a:custGeom>
            <a:avLst/>
            <a:gdLst/>
            <a:ahLst/>
            <a:rect l="l" t="t" r="r" b="b"/>
            <a:pathLst>
              <a:path w="1056" h="816">
                <a:moveTo>
                  <a:pt x="0" y="0"/>
                </a:moveTo>
                <a:lnTo>
                  <a:pt x="720" y="192"/>
                </a:lnTo>
                <a:lnTo>
                  <a:pt x="1056" y="816"/>
                </a:lnTo>
                <a:lnTo>
                  <a:pt x="240" y="816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49800" y="1905120"/>
            <a:ext cx="722520" cy="1828800"/>
          </a:xfrm>
          <a:custGeom>
            <a:avLst/>
            <a:gdLst/>
            <a:ahLst/>
            <a:rect l="l" t="t" r="r" b="b"/>
            <a:pathLst>
              <a:path w="480" h="1248">
                <a:moveTo>
                  <a:pt x="240" y="0"/>
                </a:moveTo>
                <a:lnTo>
                  <a:pt x="480" y="816"/>
                </a:lnTo>
                <a:lnTo>
                  <a:pt x="96" y="1248"/>
                </a:lnTo>
                <a:lnTo>
                  <a:pt x="0" y="528"/>
                </a:lnTo>
                <a:lnTo>
                  <a:pt x="240" y="0"/>
                </a:lnTo>
                <a:close/>
              </a:path>
            </a:pathLst>
          </a:custGeom>
          <a:solidFill>
            <a:srgbClr val="ff66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94520" y="3100320"/>
            <a:ext cx="1806480" cy="633600"/>
          </a:xfrm>
          <a:custGeom>
            <a:avLst/>
            <a:gdLst/>
            <a:ahLst/>
            <a:rect l="l" t="t" r="r" b="b"/>
            <a:pathLst>
              <a:path w="1200" h="432">
                <a:moveTo>
                  <a:pt x="384" y="0"/>
                </a:moveTo>
                <a:lnTo>
                  <a:pt x="1200" y="0"/>
                </a:lnTo>
                <a:lnTo>
                  <a:pt x="624" y="384"/>
                </a:lnTo>
                <a:lnTo>
                  <a:pt x="0" y="432"/>
                </a:lnTo>
                <a:lnTo>
                  <a:pt x="384" y="0"/>
                </a:lnTo>
                <a:close/>
              </a:path>
            </a:pathLst>
          </a:custGeom>
          <a:solidFill>
            <a:srgbClr val="9933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6916680" y="2185920"/>
            <a:ext cx="577800" cy="63360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916680" y="2819520"/>
            <a:ext cx="217440" cy="84456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 flipV="1">
            <a:off x="6049800" y="2677680"/>
            <a:ext cx="866880" cy="14148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90720" y="3962520"/>
            <a:ext cx="1734840" cy="1617480"/>
          </a:xfrm>
          <a:custGeom>
            <a:avLst/>
            <a:gdLst/>
            <a:ahLst/>
            <a:rect l="l" t="t" r="r" b="b"/>
            <a:pathLst>
              <a:path w="1152" h="1104">
                <a:moveTo>
                  <a:pt x="0" y="48"/>
                </a:moveTo>
                <a:lnTo>
                  <a:pt x="1056" y="0"/>
                </a:lnTo>
                <a:lnTo>
                  <a:pt x="1152" y="1056"/>
                </a:lnTo>
                <a:lnTo>
                  <a:pt x="48" y="1104"/>
                </a:lnTo>
                <a:lnTo>
                  <a:pt x="0" y="48"/>
                </a:lnTo>
                <a:close/>
              </a:path>
            </a:pathLst>
          </a:custGeom>
          <a:solidFill>
            <a:srgbClr val="9e47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438280" y="5715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houet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Faster than Moore’s La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51000" y="2697120"/>
            <a:ext cx="2368800" cy="649440"/>
          </a:xfrm>
          <a:prstGeom prst="rect">
            <a:avLst/>
          </a:prstGeom>
          <a:solidFill>
            <a:srgbClr val="720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98960" y="2770200"/>
            <a:ext cx="21463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5864400" y="3104640"/>
            <a:ext cx="2593800" cy="146700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03760" y="3708360"/>
            <a:ext cx="76320" cy="8780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667400" y="3708360"/>
            <a:ext cx="74520" cy="757080"/>
            <a:chOff x="4667400" y="3708360"/>
            <a:chExt cx="74520" cy="757080"/>
          </a:xfrm>
        </p:grpSpPr>
        <p:sp>
          <p:nvSpPr>
            <p:cNvPr id="54" name=""/>
            <p:cNvSpPr/>
            <p:nvPr/>
          </p:nvSpPr>
          <p:spPr>
            <a:xfrm>
              <a:off x="4667400" y="3708360"/>
              <a:ext cx="74520" cy="10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667400" y="3924720"/>
              <a:ext cx="74520" cy="10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67400" y="4141080"/>
              <a:ext cx="74520" cy="10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667400" y="4357440"/>
              <a:ext cx="74520" cy="10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 flipV="1">
            <a:off x="2076480" y="3696840"/>
            <a:ext cx="2614680" cy="1513080"/>
          </a:xfrm>
          <a:prstGeom prst="line">
            <a:avLst/>
          </a:prstGeom>
          <a:ln w="1015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989000" y="4836960"/>
            <a:ext cx="235080" cy="228600"/>
            <a:chOff x="1989000" y="4836960"/>
            <a:chExt cx="235080" cy="228600"/>
          </a:xfrm>
        </p:grpSpPr>
        <p:sp>
          <p:nvSpPr>
            <p:cNvPr id="60" name=""/>
            <p:cNvSpPr/>
            <p:nvPr/>
          </p:nvSpPr>
          <p:spPr>
            <a:xfrm>
              <a:off x="1989000" y="4836960"/>
              <a:ext cx="23508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2001600" y="4849200"/>
              <a:ext cx="172440" cy="16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2038320" y="1905120"/>
            <a:ext cx="6232680" cy="504720"/>
          </a:xfrm>
          <a:prstGeom prst="rect">
            <a:avLst/>
          </a:prstGeom>
          <a:solidFill>
            <a:srgbClr val="99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691160" y="2662200"/>
            <a:ext cx="3271680" cy="1898640"/>
          </a:xfrm>
          <a:prstGeom prst="line">
            <a:avLst/>
          </a:prstGeom>
          <a:ln w="1015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9680" y="3165480"/>
            <a:ext cx="45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ak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3760" y="3346560"/>
            <a:ext cx="1072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formanc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720" y="3527280"/>
            <a:ext cx="68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's/sec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86640" y="5618160"/>
            <a:ext cx="37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32880" y="5005440"/>
            <a:ext cx="47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P CR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3200" y="516096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GI Iri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91440" y="4861080"/>
            <a:ext cx="43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GI G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23560" y="4332240"/>
            <a:ext cx="47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P VR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94080" y="4657680"/>
            <a:ext cx="85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ellar GS10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95000" y="4067280"/>
            <a:ext cx="52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GI VG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86840" y="4282920"/>
            <a:ext cx="54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P TVR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14600" y="3828960"/>
            <a:ext cx="80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GI SkyWri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98120" y="406872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GI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456084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&amp;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89800" y="4692600"/>
            <a:ext cx="28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3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49640" y="1965240"/>
            <a:ext cx="401328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63760" y="2057400"/>
            <a:ext cx="3852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63d00"/>
                </a:solidFill>
                <a:latin typeface="Arial"/>
              </a:rPr>
              <a:t>One-pixel polygons (~10M polygons @ 30Hz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7240" y="4282920"/>
            <a:ext cx="24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G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844880" y="3960360"/>
            <a:ext cx="1800" cy="492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96680" y="42004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129280" y="3970080"/>
            <a:ext cx="1440" cy="276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24280" y="4021200"/>
            <a:ext cx="48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egate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38320" y="5378400"/>
            <a:ext cx="6648480" cy="1800"/>
          </a:xfrm>
          <a:prstGeom prst="line">
            <a:avLst/>
          </a:prstGeom>
          <a:ln w="12600">
            <a:solidFill>
              <a:srgbClr val="9e4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27520" y="5378400"/>
            <a:ext cx="1440" cy="108000"/>
          </a:xfrm>
          <a:prstGeom prst="line">
            <a:avLst/>
          </a:prstGeom>
          <a:ln w="12600">
            <a:solidFill>
              <a:srgbClr val="9e4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14920" y="5378400"/>
            <a:ext cx="1440" cy="108000"/>
          </a:xfrm>
          <a:prstGeom prst="line">
            <a:avLst/>
          </a:prstGeom>
          <a:ln w="12600">
            <a:solidFill>
              <a:srgbClr val="9e4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03760" y="5378400"/>
            <a:ext cx="1440" cy="108000"/>
          </a:xfrm>
          <a:prstGeom prst="line">
            <a:avLst/>
          </a:prstGeom>
          <a:ln w="12600">
            <a:solidFill>
              <a:srgbClr val="9e4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94400" y="5378400"/>
            <a:ext cx="1440" cy="108000"/>
          </a:xfrm>
          <a:prstGeom prst="line">
            <a:avLst/>
          </a:prstGeom>
          <a:ln w="12600">
            <a:solidFill>
              <a:srgbClr val="9e4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81800" y="5378400"/>
            <a:ext cx="1440" cy="108000"/>
          </a:xfrm>
          <a:prstGeom prst="line">
            <a:avLst/>
          </a:prstGeom>
          <a:ln w="12600">
            <a:solidFill>
              <a:srgbClr val="9e4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70640" y="5378400"/>
            <a:ext cx="1800" cy="108000"/>
          </a:xfrm>
          <a:prstGeom prst="line">
            <a:avLst/>
          </a:prstGeom>
          <a:ln w="12600">
            <a:solidFill>
              <a:srgbClr val="9e4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29600" y="5473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18440" y="5473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05840" y="5473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95040" y="5473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9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3880" y="5473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9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72720" y="5473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61920" y="5473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49320" y="5473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926720" y="5378400"/>
            <a:ext cx="111240" cy="1800"/>
          </a:xfrm>
          <a:prstGeom prst="line">
            <a:avLst/>
          </a:prstGeom>
          <a:ln w="12600">
            <a:solidFill>
              <a:srgbClr val="9e4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926720" y="4729320"/>
            <a:ext cx="111240" cy="1440"/>
          </a:xfrm>
          <a:prstGeom prst="line">
            <a:avLst/>
          </a:prstGeom>
          <a:ln w="12600">
            <a:solidFill>
              <a:srgbClr val="9e4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926720" y="4081320"/>
            <a:ext cx="111240" cy="1800"/>
          </a:xfrm>
          <a:prstGeom prst="line">
            <a:avLst/>
          </a:prstGeom>
          <a:ln w="12600">
            <a:solidFill>
              <a:srgbClr val="9e4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926720" y="3430440"/>
            <a:ext cx="111240" cy="1800"/>
          </a:xfrm>
          <a:prstGeom prst="line">
            <a:avLst/>
          </a:prstGeom>
          <a:ln w="12600">
            <a:solidFill>
              <a:srgbClr val="9e4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26720" y="2781360"/>
            <a:ext cx="111240" cy="1440"/>
          </a:xfrm>
          <a:prstGeom prst="line">
            <a:avLst/>
          </a:prstGeom>
          <a:ln w="12600">
            <a:solidFill>
              <a:srgbClr val="9e4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21440" y="5257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11160" y="5221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21440" y="46083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11160" y="4573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21440" y="39607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11160" y="3924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21440" y="3309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11160" y="3274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21440" y="2662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11160" y="26258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21440" y="20131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11160" y="1976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25720" y="2397240"/>
            <a:ext cx="6221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38320" y="1905120"/>
            <a:ext cx="1440" cy="3581280"/>
          </a:xfrm>
          <a:prstGeom prst="line">
            <a:avLst/>
          </a:prstGeom>
          <a:ln w="12600">
            <a:solidFill>
              <a:srgbClr val="9e4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90880" y="4836960"/>
            <a:ext cx="75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C Pxpl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148280" y="3600360"/>
            <a:ext cx="234720" cy="228600"/>
            <a:chOff x="4148280" y="3600360"/>
            <a:chExt cx="234720" cy="228600"/>
          </a:xfrm>
        </p:grpSpPr>
        <p:sp>
          <p:nvSpPr>
            <p:cNvPr id="122" name=""/>
            <p:cNvSpPr/>
            <p:nvPr/>
          </p:nvSpPr>
          <p:spPr>
            <a:xfrm>
              <a:off x="4148280" y="3600360"/>
              <a:ext cx="23472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4172760" y="3600360"/>
              <a:ext cx="160560" cy="16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"/>
          <p:cNvSpPr/>
          <p:nvPr/>
        </p:nvSpPr>
        <p:spPr>
          <a:xfrm>
            <a:off x="3302280" y="3587760"/>
            <a:ext cx="75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C Pxpl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815160" y="2841480"/>
            <a:ext cx="235080" cy="228600"/>
            <a:chOff x="6815160" y="2841480"/>
            <a:chExt cx="235080" cy="228600"/>
          </a:xfrm>
        </p:grpSpPr>
        <p:sp>
          <p:nvSpPr>
            <p:cNvPr id="126" name=""/>
            <p:cNvSpPr/>
            <p:nvPr/>
          </p:nvSpPr>
          <p:spPr>
            <a:xfrm>
              <a:off x="6815160" y="2841480"/>
              <a:ext cx="23508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3"/>
            <a:stretch/>
          </p:blipFill>
          <p:spPr>
            <a:xfrm>
              <a:off x="6840000" y="2841480"/>
              <a:ext cx="160200" cy="16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"/>
          <p:cNvSpPr/>
          <p:nvPr/>
        </p:nvSpPr>
        <p:spPr>
          <a:xfrm>
            <a:off x="5465880" y="2830680"/>
            <a:ext cx="127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C/HP PixelF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14280" y="4356000"/>
            <a:ext cx="732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la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hading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48080" y="4932360"/>
            <a:ext cx="782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ourau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hading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07640" y="4897440"/>
            <a:ext cx="101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tialias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534520" y="1905120"/>
            <a:ext cx="1440" cy="3581280"/>
          </a:xfrm>
          <a:prstGeom prst="line">
            <a:avLst/>
          </a:prstGeom>
          <a:ln w="12600">
            <a:solidFill>
              <a:srgbClr val="9e4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13360" y="2805120"/>
            <a:ext cx="178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63d00"/>
                </a:solidFill>
                <a:latin typeface="Arial"/>
              </a:rPr>
              <a:t>Slope ~2.4x/yea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18400" y="3046320"/>
            <a:ext cx="206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63d00"/>
                </a:solidFill>
                <a:latin typeface="Arial"/>
              </a:rPr>
              <a:t>(Moore's Law ~ 1.7x/yea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7960" y="315432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GI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6720" y="3286080"/>
            <a:ext cx="12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39120" y="337032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&amp;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25440" y="3503520"/>
            <a:ext cx="51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armon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32000" y="29145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GI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497720" y="3009960"/>
            <a:ext cx="592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-Mons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44840" y="4513320"/>
            <a:ext cx="72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ivision VP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67800" y="4189320"/>
            <a:ext cx="793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&amp;S Freed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98480" y="3755880"/>
            <a:ext cx="63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ccel/VSI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75360" y="3863880"/>
            <a:ext cx="43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oodo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56680" y="367200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li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4878360" y="3274920"/>
            <a:ext cx="827280" cy="588960"/>
          </a:xfrm>
          <a:prstGeom prst="line">
            <a:avLst/>
          </a:prstGeom>
          <a:ln w="28440">
            <a:solidFill>
              <a:srgbClr val="40498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64520" y="3417840"/>
            <a:ext cx="442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i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xpl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77600" y="4211640"/>
            <a:ext cx="1070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C Graphi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37280" y="4621320"/>
            <a:ext cx="74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extu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922520" y="3490920"/>
            <a:ext cx="36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G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bal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03400" y="3309840"/>
            <a:ext cx="63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vidia T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68320" y="3417840"/>
            <a:ext cx="43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DLab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52880" y="5942160"/>
            <a:ext cx="415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988"/>
                </a:solidFill>
                <a:latin typeface="Arial"/>
              </a:rPr>
              <a:t>Graph courtesy of Professor John Poult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31840" y="5067360"/>
            <a:ext cx="93960" cy="9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46240" y="5213520"/>
            <a:ext cx="92160" cy="9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73520" y="4737240"/>
            <a:ext cx="91800" cy="9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62320" y="4475160"/>
            <a:ext cx="92160" cy="88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38560" y="4595760"/>
            <a:ext cx="92160" cy="90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5360" y="4025880"/>
            <a:ext cx="92160" cy="88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95840" y="4129200"/>
            <a:ext cx="91800" cy="9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2560" y="3881520"/>
            <a:ext cx="93600" cy="90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06920" y="4079880"/>
            <a:ext cx="92160" cy="9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3890880"/>
            <a:ext cx="93600" cy="88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78520" y="3903840"/>
            <a:ext cx="91800" cy="90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87880" y="4210200"/>
            <a:ext cx="92160" cy="90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02040" y="4408560"/>
            <a:ext cx="93960" cy="9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05480" y="3983040"/>
            <a:ext cx="93600" cy="90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75280" y="3713040"/>
            <a:ext cx="92160" cy="907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07240" y="4338720"/>
            <a:ext cx="91800" cy="90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75280" y="4487760"/>
            <a:ext cx="92160" cy="907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78560" y="3419640"/>
            <a:ext cx="93600" cy="90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08720" y="3419640"/>
            <a:ext cx="92160" cy="88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62680" y="3765600"/>
            <a:ext cx="92160" cy="90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48640" y="3886200"/>
            <a:ext cx="93600" cy="8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8440" y="3660840"/>
            <a:ext cx="92160" cy="90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62880" y="3492360"/>
            <a:ext cx="93600" cy="907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0120" y="3495600"/>
            <a:ext cx="93600" cy="90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796160" y="3544920"/>
            <a:ext cx="92160" cy="90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89720" y="2890800"/>
            <a:ext cx="93600" cy="90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152200" y="3276720"/>
            <a:ext cx="494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eFor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8546760" y="4729320"/>
            <a:ext cx="111240" cy="1440"/>
          </a:xfrm>
          <a:prstGeom prst="line">
            <a:avLst/>
          </a:prstGeom>
          <a:ln w="12600">
            <a:solidFill>
              <a:srgbClr val="9e4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8546760" y="4081320"/>
            <a:ext cx="111240" cy="1800"/>
          </a:xfrm>
          <a:prstGeom prst="line">
            <a:avLst/>
          </a:prstGeom>
          <a:ln w="12600">
            <a:solidFill>
              <a:srgbClr val="9e4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546760" y="3430440"/>
            <a:ext cx="111240" cy="1800"/>
          </a:xfrm>
          <a:prstGeom prst="line">
            <a:avLst/>
          </a:prstGeom>
          <a:ln w="12600">
            <a:solidFill>
              <a:srgbClr val="9e4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8546760" y="2781360"/>
            <a:ext cx="111240" cy="1440"/>
          </a:xfrm>
          <a:prstGeom prst="line">
            <a:avLst/>
          </a:prstGeom>
          <a:ln w="12600">
            <a:solidFill>
              <a:srgbClr val="9e4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8546760" y="2133720"/>
            <a:ext cx="111240" cy="1440"/>
          </a:xfrm>
          <a:prstGeom prst="line">
            <a:avLst/>
          </a:prstGeom>
          <a:ln w="12600">
            <a:solidFill>
              <a:srgbClr val="9e4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733600" y="5257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917920" y="5221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733600" y="46083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917920" y="4573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733600" y="39607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917920" y="3924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733600" y="3309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917920" y="3274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733600" y="2662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917920" y="26258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733600" y="20131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917920" y="1976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926720" y="2133720"/>
            <a:ext cx="111240" cy="1440"/>
          </a:xfrm>
          <a:prstGeom prst="line">
            <a:avLst/>
          </a:prstGeom>
          <a:ln w="12600">
            <a:solidFill>
              <a:srgbClr val="9e4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077320" y="3200400"/>
            <a:ext cx="91800" cy="90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229600" y="5378400"/>
            <a:ext cx="1440" cy="108000"/>
          </a:xfrm>
          <a:prstGeom prst="line">
            <a:avLst/>
          </a:prstGeom>
          <a:ln w="12600">
            <a:solidFill>
              <a:srgbClr val="9e4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05920" y="3048120"/>
            <a:ext cx="91800" cy="90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152200" y="2743200"/>
            <a:ext cx="687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I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adeon 25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r each pair of planes defining the box along one axis, classify the eye location as above, below, or between these plan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3*3*3 = 27 possibilities; using bit codes for each compare gives a 43 entry table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r each (possible) entry, give the list of the 4 or 6 silhouette edge vertic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ompute the area: done!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ore Inform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e SIGGRAPH 2000 notes for this, the LOD, and the compression course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Our web site http://www.realtimerendering.com/ has links to articles, demos, vendors, code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ode for the projected area algorithm is at http://www.acm.org/jgt/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(Not) By the year 2010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Moore’s Law gives 10x every 5 years, so CPUs are 100x faster in 2010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57200" y="3124080"/>
            <a:ext cx="5705280" cy="2806560"/>
            <a:chOff x="457200" y="3124080"/>
            <a:chExt cx="5705280" cy="2806560"/>
          </a:xfrm>
        </p:grpSpPr>
        <p:sp>
          <p:nvSpPr>
            <p:cNvPr id="206" name=""/>
            <p:cNvSpPr/>
            <p:nvPr/>
          </p:nvSpPr>
          <p:spPr>
            <a:xfrm>
              <a:off x="457200" y="3124080"/>
              <a:ext cx="2088360" cy="561960"/>
            </a:xfrm>
            <a:prstGeom prst="rect">
              <a:avLst/>
            </a:prstGeom>
            <a:solidFill>
              <a:srgbClr val="9e47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GA speedup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45560" y="3124080"/>
              <a:ext cx="1808280" cy="561960"/>
            </a:xfrm>
            <a:prstGeom prst="rect">
              <a:avLst/>
            </a:prstGeom>
            <a:solidFill>
              <a:srgbClr val="9e47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10 years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54200" y="3124080"/>
              <a:ext cx="1808280" cy="561960"/>
            </a:xfrm>
            <a:prstGeom prst="rect">
              <a:avLst/>
            </a:prstGeom>
            <a:solidFill>
              <a:srgbClr val="9e47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vs. CPU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57200" y="3684600"/>
              <a:ext cx="2088360" cy="561960"/>
            </a:xfrm>
            <a:prstGeom prst="rect">
              <a:avLst/>
            </a:prstGeom>
            <a:solidFill>
              <a:srgbClr val="9e47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2x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45560" y="3684600"/>
              <a:ext cx="1808280" cy="561960"/>
            </a:xfrm>
            <a:prstGeom prst="rect">
              <a:avLst/>
            </a:prstGeom>
            <a:solidFill>
              <a:srgbClr val="9e47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1,000x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54200" y="3684600"/>
              <a:ext cx="1808280" cy="561960"/>
            </a:xfrm>
            <a:prstGeom prst="rect">
              <a:avLst/>
            </a:prstGeom>
            <a:solidFill>
              <a:srgbClr val="9e47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10x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7200" y="4244760"/>
              <a:ext cx="2088360" cy="561960"/>
            </a:xfrm>
            <a:prstGeom prst="rect">
              <a:avLst/>
            </a:prstGeom>
            <a:solidFill>
              <a:srgbClr val="9e47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2.4x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45560" y="4244760"/>
              <a:ext cx="1808280" cy="561960"/>
            </a:xfrm>
            <a:prstGeom prst="rect">
              <a:avLst/>
            </a:prstGeom>
            <a:solidFill>
              <a:srgbClr val="9e47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6,000x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54200" y="4244760"/>
              <a:ext cx="1808280" cy="561960"/>
            </a:xfrm>
            <a:prstGeom prst="rect">
              <a:avLst/>
            </a:prstGeom>
            <a:solidFill>
              <a:srgbClr val="9e47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60x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7200" y="4805640"/>
              <a:ext cx="2088360" cy="561960"/>
            </a:xfrm>
            <a:prstGeom prst="rect">
              <a:avLst/>
            </a:prstGeom>
            <a:solidFill>
              <a:srgbClr val="9e47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3x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45560" y="4805640"/>
              <a:ext cx="1808280" cy="561960"/>
            </a:xfrm>
            <a:prstGeom prst="rect">
              <a:avLst/>
            </a:prstGeom>
            <a:solidFill>
              <a:srgbClr val="9e47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59,000x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54200" y="4805640"/>
              <a:ext cx="1808280" cy="561960"/>
            </a:xfrm>
            <a:prstGeom prst="rect">
              <a:avLst/>
            </a:prstGeom>
            <a:solidFill>
              <a:srgbClr val="9e47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590x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" y="5368680"/>
              <a:ext cx="2088360" cy="561960"/>
            </a:xfrm>
            <a:prstGeom prst="rect">
              <a:avLst/>
            </a:prstGeom>
            <a:solidFill>
              <a:srgbClr val="9e47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4x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45560" y="5368680"/>
              <a:ext cx="1808280" cy="561960"/>
            </a:xfrm>
            <a:prstGeom prst="rect">
              <a:avLst/>
            </a:prstGeom>
            <a:solidFill>
              <a:srgbClr val="9e47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1,000,000x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354200" y="5368680"/>
              <a:ext cx="1808280" cy="561960"/>
            </a:xfrm>
            <a:prstGeom prst="rect">
              <a:avLst/>
            </a:prstGeom>
            <a:solidFill>
              <a:srgbClr val="9e47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10,000x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ipeline Starv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the fill rate outstrips the front end of the pipeline (CPU/bus/T&amp;L), the rasterizer gets starved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e bus between CPU and GA is a major bottleneck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olutions to Bus Starv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ush less across the bus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ulling techniqu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hare vertices: strips, vertex buffer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ompress geometric description (Deering)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Use other descriptions (images, Beziers, subdivision surfaces)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nd simplified models (same amount of fill, less vertices)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andwidth Analysi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3580920"/>
            <a:ext cx="85611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Each vertex has a position, normal, and one texture coordinate pair (at least)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riangle loop itself needs 3 bytes (for a mesh with &lt;= 256 vertices)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737240" y="2651040"/>
            <a:ext cx="544320" cy="397080"/>
          </a:xfrm>
          <a:custGeom>
            <a:avLst/>
            <a:gdLst/>
            <a:ahLst/>
            <a:rect l="l" t="t" r="r" b="b"/>
            <a:pathLst>
              <a:path w="343" h="250">
                <a:moveTo>
                  <a:pt x="0" y="0"/>
                </a:moveTo>
                <a:lnTo>
                  <a:pt x="343" y="16"/>
                </a:lnTo>
                <a:lnTo>
                  <a:pt x="15" y="250"/>
                </a:lnTo>
                <a:lnTo>
                  <a:pt x="0" y="0"/>
                </a:lnTo>
                <a:close/>
              </a:path>
            </a:pathLst>
          </a:custGeom>
          <a:solidFill>
            <a:srgbClr val="9e47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761000" y="2676600"/>
            <a:ext cx="520560" cy="384120"/>
          </a:xfrm>
          <a:custGeom>
            <a:avLst/>
            <a:gdLst/>
            <a:ahLst/>
            <a:rect l="l" t="t" r="r" b="b"/>
            <a:pathLst>
              <a:path w="328" h="242">
                <a:moveTo>
                  <a:pt x="273" y="234"/>
                </a:moveTo>
                <a:lnTo>
                  <a:pt x="328" y="0"/>
                </a:lnTo>
                <a:lnTo>
                  <a:pt x="0" y="242"/>
                </a:lnTo>
                <a:lnTo>
                  <a:pt x="273" y="234"/>
                </a:lnTo>
                <a:close/>
              </a:path>
            </a:pathLst>
          </a:custGeom>
          <a:solidFill>
            <a:srgbClr val="9e47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2651040"/>
            <a:ext cx="433440" cy="397080"/>
          </a:xfrm>
          <a:custGeom>
            <a:avLst/>
            <a:gdLst/>
            <a:ahLst/>
            <a:rect l="l" t="t" r="r" b="b"/>
            <a:pathLst>
              <a:path w="273" h="250">
                <a:moveTo>
                  <a:pt x="0" y="250"/>
                </a:moveTo>
                <a:lnTo>
                  <a:pt x="63" y="16"/>
                </a:lnTo>
                <a:lnTo>
                  <a:pt x="273" y="0"/>
                </a:lnTo>
                <a:lnTo>
                  <a:pt x="0" y="250"/>
                </a:lnTo>
                <a:close/>
              </a:path>
            </a:pathLst>
          </a:custGeom>
          <a:solidFill>
            <a:srgbClr val="9e47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94440" y="2664000"/>
            <a:ext cx="469800" cy="407880"/>
          </a:xfrm>
          <a:custGeom>
            <a:avLst/>
            <a:gdLst/>
            <a:ahLst/>
            <a:rect l="l" t="t" r="r" b="b"/>
            <a:pathLst>
              <a:path w="296" h="257">
                <a:moveTo>
                  <a:pt x="0" y="242"/>
                </a:moveTo>
                <a:lnTo>
                  <a:pt x="265" y="0"/>
                </a:lnTo>
                <a:lnTo>
                  <a:pt x="296" y="257"/>
                </a:lnTo>
                <a:lnTo>
                  <a:pt x="0" y="242"/>
                </a:lnTo>
                <a:close/>
              </a:path>
            </a:pathLst>
          </a:custGeom>
          <a:solidFill>
            <a:srgbClr val="9e47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68880" y="3048120"/>
            <a:ext cx="495360" cy="395280"/>
          </a:xfrm>
          <a:custGeom>
            <a:avLst/>
            <a:gdLst/>
            <a:ahLst/>
            <a:rect l="l" t="t" r="r" b="b"/>
            <a:pathLst>
              <a:path w="312" h="249">
                <a:moveTo>
                  <a:pt x="16" y="0"/>
                </a:moveTo>
                <a:lnTo>
                  <a:pt x="0" y="249"/>
                </a:lnTo>
                <a:lnTo>
                  <a:pt x="312" y="15"/>
                </a:lnTo>
                <a:lnTo>
                  <a:pt x="16" y="0"/>
                </a:lnTo>
                <a:close/>
              </a:path>
            </a:pathLst>
          </a:custGeom>
          <a:solidFill>
            <a:srgbClr val="9e47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68880" y="3060720"/>
            <a:ext cx="495360" cy="395280"/>
          </a:xfrm>
          <a:custGeom>
            <a:avLst/>
            <a:gdLst/>
            <a:ahLst/>
            <a:rect l="l" t="t" r="r" b="b"/>
            <a:pathLst>
              <a:path w="312" h="249">
                <a:moveTo>
                  <a:pt x="0" y="249"/>
                </a:moveTo>
                <a:lnTo>
                  <a:pt x="265" y="233"/>
                </a:lnTo>
                <a:lnTo>
                  <a:pt x="312" y="0"/>
                </a:lnTo>
                <a:lnTo>
                  <a:pt x="0" y="249"/>
                </a:lnTo>
                <a:close/>
              </a:path>
            </a:pathLst>
          </a:custGeom>
          <a:solidFill>
            <a:srgbClr val="9e47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711680" y="3048120"/>
            <a:ext cx="482760" cy="407880"/>
          </a:xfrm>
          <a:custGeom>
            <a:avLst/>
            <a:gdLst/>
            <a:ahLst/>
            <a:rect l="l" t="t" r="r" b="b"/>
            <a:pathLst>
              <a:path w="304" h="257">
                <a:moveTo>
                  <a:pt x="304" y="0"/>
                </a:moveTo>
                <a:lnTo>
                  <a:pt x="281" y="257"/>
                </a:lnTo>
                <a:lnTo>
                  <a:pt x="0" y="249"/>
                </a:lnTo>
                <a:lnTo>
                  <a:pt x="304" y="0"/>
                </a:lnTo>
                <a:close/>
              </a:path>
            </a:pathLst>
          </a:custGeom>
          <a:solidFill>
            <a:srgbClr val="9e47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048120"/>
            <a:ext cx="457200" cy="395280"/>
          </a:xfrm>
          <a:custGeom>
            <a:avLst/>
            <a:gdLst/>
            <a:ahLst/>
            <a:rect l="l" t="t" r="r" b="b"/>
            <a:pathLst>
              <a:path w="288" h="249">
                <a:moveTo>
                  <a:pt x="288" y="0"/>
                </a:moveTo>
                <a:lnTo>
                  <a:pt x="0" y="249"/>
                </a:lnTo>
                <a:lnTo>
                  <a:pt x="23" y="8"/>
                </a:lnTo>
                <a:lnTo>
                  <a:pt x="288" y="0"/>
                </a:lnTo>
                <a:close/>
              </a:path>
            </a:pathLst>
          </a:custGeom>
          <a:solidFill>
            <a:srgbClr val="9e47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26040" y="2978280"/>
            <a:ext cx="138240" cy="15084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olygonal mesh: each vertex shared by 6 triangles.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andwidth Analysis (cont.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riangle takes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3*(3 XYZ floats + 3 normal floats + 2 UV floats) / 6 + 3 bytes for each loop =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19 bytes per triangl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ere are 3 bytes per pixel (RGB)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o a triangle must </a:t>
            </a:r>
            <a:r>
              <a:rPr b="0" i="1" lang="en-US" sz="3100" spc="-1" strike="noStrike">
                <a:solidFill>
                  <a:srgbClr val="ffffff"/>
                </a:solidFill>
                <a:latin typeface="Arial"/>
              </a:rPr>
              <a:t>be visible at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19/3 ~= 6 pixels to cost less than sending the pixel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(idea by Steve Hollasch)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mpostor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980720"/>
            <a:ext cx="85611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r a far away object, render it once and send down the image as a textured quadrilateral with alpha transparency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IMPOSTOR" descr=""/>
          <p:cNvPicPr/>
          <p:nvPr/>
        </p:nvPicPr>
        <p:blipFill>
          <a:blip r:embed="rId1"/>
          <a:stretch/>
        </p:blipFill>
        <p:spPr>
          <a:xfrm>
            <a:off x="2362320" y="3505320"/>
            <a:ext cx="419076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8T07:00:51Z</dcterms:created>
  <dc:creator>Eric Haines</dc:creator>
  <dc:description/>
  <dc:language>en-US</dc:language>
  <cp:lastModifiedBy>Eric Haines</cp:lastModifiedBy>
  <dcterms:modified xsi:type="dcterms:W3CDTF">2001-03-15T16:08:10Z</dcterms:modified>
  <cp:revision>31</cp:revision>
  <dc:subject>application-side optimization</dc:subject>
  <dc:title>Stopping Pipeline Starvation</dc:title>
</cp:coreProperties>
</file>